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2.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9.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10.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8.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76.xml" ContentType="application/vnd.openxmlformats-officedocument.presentationml.slideLayout+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174.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3.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6.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415.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4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208.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90.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2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Lst>
  <p:sldIdLst>
    <p:sldId id="256" r:id="rId37"/>
    <p:sldId id="257" r:id="rId38"/>
    <p:sldId id="258" r:id="rId39"/>
    <p:sldId id="259" r:id="rId40"/>
    <p:sldId id="260" r:id="rId41"/>
    <p:sldId id="261" r:id="rId42"/>
    <p:sldId id="262" r:id="rId43"/>
    <p:sldId id="263" r:id="rId44"/>
    <p:sldId id="264" r:id="rId45"/>
    <p:sldId id="265"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 Target="slides/slide1.xml"/><Relationship Id="rId38" Type="http://schemas.openxmlformats.org/officeDocument/2006/relationships/slide" Target="slides/slide2.xml"/><Relationship Id="rId39" Type="http://schemas.openxmlformats.org/officeDocument/2006/relationships/slide" Target="slides/slide3.xml"/><Relationship Id="rId40" Type="http://schemas.openxmlformats.org/officeDocument/2006/relationships/slide" Target="slides/slide4.xml"/><Relationship Id="rId41" Type="http://schemas.openxmlformats.org/officeDocument/2006/relationships/slide" Target="slides/slide5.xml"/><Relationship Id="rId42" Type="http://schemas.openxmlformats.org/officeDocument/2006/relationships/slide" Target="slides/slide6.xml"/><Relationship Id="rId43" Type="http://schemas.openxmlformats.org/officeDocument/2006/relationships/slide" Target="slides/slide7.xml"/><Relationship Id="rId44" Type="http://schemas.openxmlformats.org/officeDocument/2006/relationships/slide" Target="slides/slide8.xml"/><Relationship Id="rId45" Type="http://schemas.openxmlformats.org/officeDocument/2006/relationships/slide" Target="slides/slide9.xml"/><Relationship Id="rId46" Type="http://schemas.openxmlformats.org/officeDocument/2006/relationships/slide" Target="slides/slide10.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9A826B-9DAE-477B-B9B0-7DEC8C51F9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321AD7FB-5A35-4C03-A33A-84B2C582BE2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414B272C-6122-47FB-96CC-B898AD97136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9"/>
          </p:nvPr>
        </p:nvSpPr>
        <p:spPr/>
        <p:txBody>
          <a:bodyPr/>
          <a:p>
            <a:fld id="{5C985EC1-1C8F-401D-99E6-A688EBE8A87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
          </p:nvPr>
        </p:nvSpPr>
        <p:spPr/>
        <p:txBody>
          <a:bodyPr/>
          <a:p>
            <a:fld id="{67CC778C-0382-460D-9117-1051685853A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79A24AA4-1A09-4C65-86A5-B2684E7B0D2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1DED0357-6C27-4DA5-AE8B-A3A587397AD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34D14C0F-B80B-4D5B-B98F-973FDF01633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88197DE5-0C22-415E-80FE-5ABBEEA7D2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
          </p:nvPr>
        </p:nvSpPr>
        <p:spPr/>
        <p:txBody>
          <a:bodyPr/>
          <a:p>
            <a:fld id="{EE086D92-3F3B-493B-92F8-284EA12BABE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
          </p:nvPr>
        </p:nvSpPr>
        <p:spPr/>
        <p:txBody>
          <a:bodyPr/>
          <a:p>
            <a:fld id="{043419C4-B29D-42A0-8F98-158E3757DCB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88E8227-80BD-4675-A59E-677286292D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DCEDD2C6-A293-46F5-9D4F-F6888595628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8961ACE1-3A1E-424B-99B0-211FBA30A6B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EA3B6E19-5831-4224-A595-5FD14726EB1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F14A40E7-813D-49B6-A584-94220B66ABF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0"/>
          </p:nvPr>
        </p:nvSpPr>
        <p:spPr/>
        <p:txBody>
          <a:bodyPr/>
          <a:p>
            <a:fld id="{C24DE7FC-429D-40EB-96EA-799FAD5BFC5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0"/>
          </p:nvPr>
        </p:nvSpPr>
        <p:spPr/>
        <p:txBody>
          <a:bodyPr/>
          <a:p>
            <a:fld id="{61D969FE-D8FE-4A9D-9E19-A81F8EDB5E6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5711F3C7-BD40-40A0-9114-3ED94D63F86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035647A3-CB06-42D7-A696-343C7FABB23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C7770912-1247-40D1-9015-48FF1281DE3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71CF4AF8-6D97-4A13-B04C-64C2BB45CA5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0"/>
          </p:nvPr>
        </p:nvSpPr>
        <p:spPr/>
        <p:txBody>
          <a:bodyPr/>
          <a:p>
            <a:fld id="{60FFB420-FE9B-4175-9D19-11508D2F67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08F60BA4-19A8-4E07-BEA0-C07851F86B9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0"/>
          </p:nvPr>
        </p:nvSpPr>
        <p:spPr/>
        <p:txBody>
          <a:bodyPr/>
          <a:p>
            <a:fld id="{54107125-73F2-4842-9154-88532B9304F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5276F62-4707-4A24-81D5-E18F696B452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B42609F7-7EAA-433B-9FE7-F5F5F58D04D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6F516F27-0A41-4459-BF25-B4C93A81AFF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B90073FE-5FCF-46DC-AE7A-CCAD337BD65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1"/>
          </p:nvPr>
        </p:nvSpPr>
        <p:spPr/>
        <p:txBody>
          <a:bodyPr/>
          <a:p>
            <a:fld id="{25C3549E-EACE-41A3-AA97-8D45AD6689F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1"/>
          </p:nvPr>
        </p:nvSpPr>
        <p:spPr/>
        <p:txBody>
          <a:bodyPr/>
          <a:p>
            <a:fld id="{617C18FC-0B55-4600-999D-92F2157B20C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A9B4B14A-EEAD-4A06-B1E2-F526D5B9229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EF05B46B-0F7B-4FA7-B8F7-8395B52F11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18BF2865-B2CD-4618-9D09-1F1CD855C7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141C22-DE2B-483E-9A5E-46F958C534F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42B71225-BBBF-4F50-89D6-F532C0A3FB7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1"/>
          </p:nvPr>
        </p:nvSpPr>
        <p:spPr/>
        <p:txBody>
          <a:bodyPr/>
          <a:p>
            <a:fld id="{A7DEAF59-18D7-4867-8407-B41DC6D44BA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1"/>
          </p:nvPr>
        </p:nvSpPr>
        <p:spPr/>
        <p:txBody>
          <a:bodyPr/>
          <a:p>
            <a:fld id="{F5DED2E4-9255-4ECB-9821-A7463236133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4278557-601F-4740-8D37-7C5DCBCD436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99C5A2CA-C311-45A1-806A-F36EAEBEE4B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5E3A5A0B-AB93-46C0-AD4C-B8058B0CCE8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AA2E7AE6-2C02-46AC-A2CA-8629893049F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2"/>
          </p:nvPr>
        </p:nvSpPr>
        <p:spPr/>
        <p:txBody>
          <a:bodyPr/>
          <a:p>
            <a:fld id="{C689EE09-F0A4-4A94-BBB0-33B740D9FB5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2"/>
          </p:nvPr>
        </p:nvSpPr>
        <p:spPr/>
        <p:txBody>
          <a:bodyPr/>
          <a:p>
            <a:fld id="{A0572B23-C043-4336-A839-D9B636F4139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B5BE4B21-2BBB-4709-BCF6-B72DCC91F2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D28791B0-C538-48AE-9ABE-3EA04464052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7C549B82-DFF1-4407-A0CF-6061FFA2B59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B3C25F5A-6D18-47B8-B4C7-D93AA5DBE6B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622A7D67-31F4-4D3C-B2C4-E98489B7AE1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2"/>
          </p:nvPr>
        </p:nvSpPr>
        <p:spPr/>
        <p:txBody>
          <a:bodyPr/>
          <a:p>
            <a:fld id="{A72C43FB-AA7A-4D0E-A3EE-6838B4D05E2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2"/>
          </p:nvPr>
        </p:nvSpPr>
        <p:spPr/>
        <p:txBody>
          <a:bodyPr/>
          <a:p>
            <a:fld id="{7A0B1F2B-927D-47AA-89FF-EEC10CA7B3B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9BBD91B-8E88-497A-A5F8-0E44C1B7005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DF027793-C5A2-489C-B149-9488BA01EAB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C2DBD622-8C21-4220-AA27-33842D96156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1EFBCF6B-68EB-4065-AD8A-31BECBCDF5B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3"/>
          </p:nvPr>
        </p:nvSpPr>
        <p:spPr/>
        <p:txBody>
          <a:bodyPr/>
          <a:p>
            <a:fld id="{233CBE61-E39C-4DF1-9AF4-E5F597BEFF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2C1B9630-B126-4451-96F8-C3B22782FD0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3"/>
          </p:nvPr>
        </p:nvSpPr>
        <p:spPr/>
        <p:txBody>
          <a:bodyPr/>
          <a:p>
            <a:fld id="{7F3849E4-DE93-484C-907C-E79A4F70735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07157CE3-FF6F-4620-8269-779FF397EDD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47E41751-9F02-4A3E-82CE-2370C94525F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29AC7BB4-7B80-437D-B8D2-4E56BF2B0B9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AACFFFDD-EECE-4D3E-A3E0-63ED76919A8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3"/>
          </p:nvPr>
        </p:nvSpPr>
        <p:spPr/>
        <p:txBody>
          <a:bodyPr/>
          <a:p>
            <a:fld id="{75EE6708-1E37-4CEA-AB56-D22A12C3845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3"/>
          </p:nvPr>
        </p:nvSpPr>
        <p:spPr/>
        <p:txBody>
          <a:bodyPr/>
          <a:p>
            <a:fld id="{2AB86515-26AA-4E78-9C95-37E72D312D8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EAD0F5F-F78B-45D2-8FB8-7665D02A337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D30B132E-94EC-4C52-B4DD-59CBC45567E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C68F6871-6216-4AA2-97D9-E2F35A29DF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3674CDE4-D137-4D31-B562-659FAF51DED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28A553EA-D00E-48BF-8253-CEFC82DBCB0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4"/>
          </p:nvPr>
        </p:nvSpPr>
        <p:spPr/>
        <p:txBody>
          <a:bodyPr/>
          <a:p>
            <a:fld id="{04A158B4-E05F-4B2E-9EBF-B8F4636A638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4"/>
          </p:nvPr>
        </p:nvSpPr>
        <p:spPr/>
        <p:txBody>
          <a:bodyPr/>
          <a:p>
            <a:fld id="{497D6F19-482B-410F-BF2F-2F7B5D05F06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F38B4859-F0F3-487D-8EBE-1368429422D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FFE961D2-CBA4-48E8-8649-E386CE0C2FF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E7580E39-19FE-4F37-8591-A731CCCF3A2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003D6AD7-538F-41D1-893B-470D37E567E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4"/>
          </p:nvPr>
        </p:nvSpPr>
        <p:spPr/>
        <p:txBody>
          <a:bodyPr/>
          <a:p>
            <a:fld id="{2610AD1B-375B-46EB-8B72-480FD164F1C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4"/>
          </p:nvPr>
        </p:nvSpPr>
        <p:spPr/>
        <p:txBody>
          <a:bodyPr/>
          <a:p>
            <a:fld id="{EAD902A1-6BB5-4E24-8365-842A3C82B2B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DE3CB02-2930-4498-8C14-6607B7E168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B2691A83-2B79-4C7D-8534-25AE0F0E763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4FE28904-BC91-4244-950E-EA521A8D7F5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4FA6D557-AF85-43C6-A7FE-8D7C44FA72A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D2C45F02-9A50-4A14-9032-792B065F562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5"/>
          </p:nvPr>
        </p:nvSpPr>
        <p:spPr/>
        <p:txBody>
          <a:bodyPr/>
          <a:p>
            <a:fld id="{D1087A3C-C42F-44F4-B869-6DA779B5185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5"/>
          </p:nvPr>
        </p:nvSpPr>
        <p:spPr/>
        <p:txBody>
          <a:bodyPr/>
          <a:p>
            <a:fld id="{5957285F-6EC2-46EA-B966-4B609FC0EC4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39FA7400-8EDD-4448-90C3-EEC075ED17A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E5BE0959-9046-4E43-B1BA-029C71A0F2E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5465B083-C41F-45F0-B272-B2CB6F9A787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6BABA19A-05F2-4B24-92E3-AA70849025A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5"/>
          </p:nvPr>
        </p:nvSpPr>
        <p:spPr/>
        <p:txBody>
          <a:bodyPr/>
          <a:p>
            <a:fld id="{E76F6437-A790-4630-830D-2A236FDD03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D77DDEA1-B342-47F9-971B-D56053DDD37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5"/>
          </p:nvPr>
        </p:nvSpPr>
        <p:spPr/>
        <p:txBody>
          <a:bodyPr/>
          <a:p>
            <a:fld id="{573775C2-8EF2-4D24-BE5E-6D47AA7495B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B37067D-E4F9-4D52-81DF-02EA52C1FE4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568E0611-4F02-4BE0-B328-CB6E87723A5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16913E3C-2924-419F-A42C-8C9F78C19C9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F98E6EE7-0082-4FAB-9DE5-0AE30249B03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6"/>
          </p:nvPr>
        </p:nvSpPr>
        <p:spPr/>
        <p:txBody>
          <a:bodyPr/>
          <a:p>
            <a:fld id="{57A0C0E1-927F-4371-81D6-DB46B2EC189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6"/>
          </p:nvPr>
        </p:nvSpPr>
        <p:spPr/>
        <p:txBody>
          <a:bodyPr/>
          <a:p>
            <a:fld id="{C46EDA6D-9F5D-487A-A558-3BC4DD8B208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B0C63254-0A2C-41E1-94FF-E825A141153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AE7BB17A-820C-471B-9B45-D965461CE83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BC67032F-37F6-44E5-BFCB-7900890FD6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A12AC61B-FD30-4D2B-BFF9-44BB68F0A0E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F84B71F8-91BE-470F-8598-6CC5AC694AC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6"/>
          </p:nvPr>
        </p:nvSpPr>
        <p:spPr/>
        <p:txBody>
          <a:bodyPr/>
          <a:p>
            <a:fld id="{B25FD74A-5310-41B8-8708-347D14F872F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6"/>
          </p:nvPr>
        </p:nvSpPr>
        <p:spPr/>
        <p:txBody>
          <a:bodyPr/>
          <a:p>
            <a:fld id="{9781E72D-D6B7-4302-8D64-4E68A67AF534}"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11C14D3-AEC5-48A9-97CF-D517C279949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5F76CCAF-BABD-4393-821E-7E431A75BB9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75A542F6-9FC4-47E2-947D-9F54B73433B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A3C82018-447C-473A-9B79-4D73E5FF6FC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7"/>
          </p:nvPr>
        </p:nvSpPr>
        <p:spPr/>
        <p:txBody>
          <a:bodyPr/>
          <a:p>
            <a:fld id="{95F965FB-9D4B-4B9B-8D29-5C9870C4905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7"/>
          </p:nvPr>
        </p:nvSpPr>
        <p:spPr/>
        <p:txBody>
          <a:bodyPr/>
          <a:p>
            <a:fld id="{D35688B9-7BE9-4114-9196-E29BB9F9BBE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9F0C48BD-5D5E-4E88-AEB3-F630E2692E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E23B062C-0213-437E-86A1-6DABC0BB40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7A6315C1-1C1B-4666-BBFF-287C592619F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9E299760-1F24-41D7-B68D-A88995D7166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67956D89-C84D-4C8A-B21A-C42EC7921CD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83E71530-6B86-476D-B5F0-1C4E5742049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7"/>
          </p:nvPr>
        </p:nvSpPr>
        <p:spPr/>
        <p:txBody>
          <a:bodyPr/>
          <a:p>
            <a:fld id="{22F87652-77D1-4081-A6EA-035F11FF26B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7"/>
          </p:nvPr>
        </p:nvSpPr>
        <p:spPr/>
        <p:txBody>
          <a:bodyPr/>
          <a:p>
            <a:fld id="{144EAE71-3220-4E19-BEF1-CC1DC7B352A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1257F66-EE35-455D-8561-D00700E0302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2D701F33-86E1-4C8A-AC60-02EDCE84F38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CE9536F1-2DF8-44F5-9912-C6DE8E35641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972D6813-0D0F-413F-9C3D-76F600B074C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8"/>
          </p:nvPr>
        </p:nvSpPr>
        <p:spPr/>
        <p:txBody>
          <a:bodyPr/>
          <a:p>
            <a:fld id="{7F74B3DC-5FCD-40FC-B339-6929D8B130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1807433A-2E53-4DFF-BCBD-3BEC69C0DB9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8"/>
          </p:nvPr>
        </p:nvSpPr>
        <p:spPr/>
        <p:txBody>
          <a:bodyPr/>
          <a:p>
            <a:fld id="{37E5DB55-5E62-4129-82D2-F17F31792F3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64A5E04F-0ED9-4FB9-9060-CE1A601BCB9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8B0620DC-0AC7-42D7-9067-A397273AB14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0524E5F9-7811-4F55-BAAB-E1E9C665B8AF}"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AB301448-1766-418E-B1A4-ABFEAE472DE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8"/>
          </p:nvPr>
        </p:nvSpPr>
        <p:spPr/>
        <p:txBody>
          <a:bodyPr/>
          <a:p>
            <a:fld id="{5996E3D6-7C23-44C1-BEBE-D0AD420042F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8"/>
          </p:nvPr>
        </p:nvSpPr>
        <p:spPr/>
        <p:txBody>
          <a:bodyPr/>
          <a:p>
            <a:fld id="{A5587FA9-3B81-4B6C-9947-B9002156E4D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150CB63-69E6-4C0F-9B34-CE87224F698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DAADE3D4-8485-49D4-9D82-1A1B17B5237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18FCA0EE-CA1F-4F06-8F38-03295934B3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A457CB0F-89CE-4047-9612-30CA485161C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4F57FF9A-622C-4370-82E5-C648314863B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9"/>
          </p:nvPr>
        </p:nvSpPr>
        <p:spPr/>
        <p:txBody>
          <a:bodyPr/>
          <a:p>
            <a:fld id="{5D89101E-2B8B-4AF8-A0DB-BF232713BBC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9"/>
          </p:nvPr>
        </p:nvSpPr>
        <p:spPr/>
        <p:txBody>
          <a:bodyPr/>
          <a:p>
            <a:fld id="{087BEE3C-91E9-40A5-921A-E3772645835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E2F536CF-DF48-40D2-8BA6-DDCC8F8B6CC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3E2B56BC-029A-47D5-949E-BF37B511EBA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AB5F6083-4D7F-4E89-9F22-C368055608D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D10ABE9F-A6A7-425B-9D7F-9AEBD8A6E42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9"/>
          </p:nvPr>
        </p:nvSpPr>
        <p:spPr/>
        <p:txBody>
          <a:bodyPr/>
          <a:p>
            <a:fld id="{300E1962-7DB4-4A0F-9C9B-07BC6C956E1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9"/>
          </p:nvPr>
        </p:nvSpPr>
        <p:spPr/>
        <p:txBody>
          <a:bodyPr/>
          <a:p>
            <a:fld id="{C40934CA-7FF2-4FBF-B1A5-C50FF5801BB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E69DD3F-64E9-4986-AF34-2B16D9073D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C03B2495-12E3-4E06-8F12-850439E4757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9CEDDA24-0084-4075-8AA6-A910ACA30AC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537DD86D-8828-4B3E-BC0F-8ED33E26645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BEA58F9F-0857-4084-9D2C-D26A7DF049F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0"/>
          </p:nvPr>
        </p:nvSpPr>
        <p:spPr/>
        <p:txBody>
          <a:bodyPr/>
          <a:p>
            <a:fld id="{89D625E5-7DBD-4236-AD6A-92DBCACC461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0"/>
          </p:nvPr>
        </p:nvSpPr>
        <p:spPr/>
        <p:txBody>
          <a:bodyPr/>
          <a:p>
            <a:fld id="{335FE416-0B15-4797-8BB9-4C039E0B814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F33B192B-D5F4-4D1F-9D71-8E8BC2C7C8A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46B68AD9-0ED9-483E-A8F5-7F34CF71623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D5418595-5B74-489D-BA32-E988F678AB0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2998A58D-2D8B-4957-949C-AA2A0063364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0"/>
          </p:nvPr>
        </p:nvSpPr>
        <p:spPr/>
        <p:txBody>
          <a:bodyPr/>
          <a:p>
            <a:fld id="{B4F3AF46-F38F-4A34-9FF4-5EF40C36E4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55B0FE1D-4C87-4ADB-BB84-C8FA95F91DE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0"/>
          </p:nvPr>
        </p:nvSpPr>
        <p:spPr/>
        <p:txBody>
          <a:bodyPr/>
          <a:p>
            <a:fld id="{827393E2-7300-4CED-9DD2-A321B17198A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AABE076-7A07-45FE-9309-5D01F29B6AA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28D76D5F-F45F-4352-9B67-8E157E75061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BD5F4006-BCF2-4C84-886F-AF6D9213861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865BE23B-1DF5-4B78-AEA7-E1B112DE658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1"/>
          </p:nvPr>
        </p:nvSpPr>
        <p:spPr/>
        <p:txBody>
          <a:bodyPr/>
          <a:p>
            <a:fld id="{7FEC73BD-5725-4369-96B2-90449F013E0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1"/>
          </p:nvPr>
        </p:nvSpPr>
        <p:spPr/>
        <p:txBody>
          <a:bodyPr/>
          <a:p>
            <a:fld id="{1A099623-9CFD-41C1-A89C-51F731FD254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D690C0F9-0844-4E8B-BB31-CEF1AFC9E02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DEE63C6A-20E7-48C0-A9CB-A89FDFDF223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5F75BC4A-F2D2-4A70-B681-F09B8FDA95C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8325D1-3D21-4695-9191-58F98653A10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A7603E8D-6DDB-48D9-A0C2-4057BC745DD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1"/>
          </p:nvPr>
        </p:nvSpPr>
        <p:spPr/>
        <p:txBody>
          <a:bodyPr/>
          <a:p>
            <a:fld id="{E600E292-8ACB-4EF2-870A-F33D8404973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1"/>
          </p:nvPr>
        </p:nvSpPr>
        <p:spPr/>
        <p:txBody>
          <a:bodyPr/>
          <a:p>
            <a:fld id="{1B52EBBD-A796-40C7-B0DD-5EEC83D08EA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3D7D8FE-AC33-49AD-9C19-4387AA66AE9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CC645421-CBFB-4CC2-A714-5A055A5686D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7"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13933A93-4C41-4966-B493-1AC5C2D2879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C0B526FD-B8BA-4FF4-9989-E767D7BA0A2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2"/>
          </p:nvPr>
        </p:nvSpPr>
        <p:spPr/>
        <p:txBody>
          <a:bodyPr/>
          <a:p>
            <a:fld id="{953CFFA4-855E-4951-954B-998B52930C0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2"/>
          </p:nvPr>
        </p:nvSpPr>
        <p:spPr/>
        <p:txBody>
          <a:bodyPr/>
          <a:p>
            <a:fld id="{91F1415F-E1CA-4371-BD0C-79A360F4D0F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19B15B96-A237-46F1-AD5D-82CD57FC51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B326F318-50B0-4313-A241-649E4C026D6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AB2E4EB2-9966-40AF-9781-EC99A6075C5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354DE3F7-6067-4F9C-AC83-518827401C1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1D419A3F-2410-4370-8408-FD739BE0211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2"/>
          </p:nvPr>
        </p:nvSpPr>
        <p:spPr/>
        <p:txBody>
          <a:bodyPr/>
          <a:p>
            <a:fld id="{4207A704-B0E5-42F6-B78E-D392FEA1858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4"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5"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2"/>
          </p:nvPr>
        </p:nvSpPr>
        <p:spPr/>
        <p:txBody>
          <a:bodyPr/>
          <a:p>
            <a:fld id="{27B7A29E-4746-4556-BD00-3C4CEF3F09E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E7E0923-E532-44D8-8C29-E0C629E8DBD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5F908FF9-99A5-4E45-8813-CDCC809BF57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C3076F5C-037C-412D-AFEA-AA5B455ED84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140DFCA0-7DFE-4648-8C50-5ABF8742789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3"/>
          </p:nvPr>
        </p:nvSpPr>
        <p:spPr/>
        <p:txBody>
          <a:bodyPr/>
          <a:p>
            <a:fld id="{E33D61CB-A5FB-44D3-93AC-F7673310A3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6537405E-636C-44B1-B227-DC2E91D3AF1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3"/>
          </p:nvPr>
        </p:nvSpPr>
        <p:spPr/>
        <p:txBody>
          <a:bodyPr/>
          <a:p>
            <a:fld id="{470BC979-DE06-4BC0-A46D-9408DE01D06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6BA4E51D-00F3-4D18-A49E-68091F7D3E7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79B39740-2A3D-4EB9-BE97-503FD3AD3990}"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AEBBB2B7-EB64-40FF-8A0B-B8A8D302D13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4249CB47-B716-480F-A5E0-F23E7E95841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3"/>
          </p:nvPr>
        </p:nvSpPr>
        <p:spPr/>
        <p:txBody>
          <a:bodyPr/>
          <a:p>
            <a:fld id="{3B561104-072E-4424-96FB-4ECA26F4619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3"/>
          </p:nvPr>
        </p:nvSpPr>
        <p:spPr/>
        <p:txBody>
          <a:bodyPr/>
          <a:p>
            <a:fld id="{F4B65677-1056-4404-A4D1-056C9DF640E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E1163B4-0A00-445C-ACCE-40A17BD353DE}"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4F02BEAD-31C9-42EB-B529-66751281D4CB}"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FAAB48D1-62BC-4B7A-8734-314E49BC5B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C6E6109C-6670-45B9-A4D7-401D121E2C62}"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AB1C4127-BA3F-4B4A-9B63-21D67519B8A7}"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4"/>
          </p:nvPr>
        </p:nvSpPr>
        <p:spPr/>
        <p:txBody>
          <a:bodyPr/>
          <a:p>
            <a:fld id="{33C5D18B-D085-458C-8E8D-3D0EA5BED6EC}"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4"/>
          </p:nvPr>
        </p:nvSpPr>
        <p:spPr/>
        <p:txBody>
          <a:bodyPr/>
          <a:p>
            <a:fld id="{C2A56357-B6AE-46AA-A7F3-074BC1DD2EEF}"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587EF0FD-A7A3-4BDE-B515-64A07CDBE43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468E36AA-22E3-4093-AFFD-A275E30C455C}"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2D4B88EB-1AD8-460F-9BE3-5EBADD8B16ED}"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A4F72D40-23EB-47B5-B222-998CBF6423F7}"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4"/>
          </p:nvPr>
        </p:nvSpPr>
        <p:spPr/>
        <p:txBody>
          <a:bodyPr/>
          <a:p>
            <a:fld id="{BD6D8327-EE52-4002-ADAF-AFDAF8A1007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4"/>
          </p:nvPr>
        </p:nvSpPr>
        <p:spPr/>
        <p:txBody>
          <a:bodyPr/>
          <a:p>
            <a:fld id="{DEB27B2A-34D3-4A96-9F53-1C7E7547E847}"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3727E7E-7775-4F24-9A48-8660C4E2BB1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
          </p:nvPr>
        </p:nvSpPr>
        <p:spPr/>
        <p:txBody>
          <a:bodyPr/>
          <a:p>
            <a:fld id="{20AB8AE7-1E4C-414E-BA31-59B21EF5F141}"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778266FC-1D1F-4264-8A71-55795975A85A}"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C59D29FE-BCE1-4C5F-AFBF-D1D08E1577B7}"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AB6F036B-E0B9-49B6-96C7-F883554ACBAE}"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5"/>
          </p:nvPr>
        </p:nvSpPr>
        <p:spPr/>
        <p:txBody>
          <a:bodyPr/>
          <a:p>
            <a:fld id="{B4516FA6-76F2-4FFD-A4CC-554990947C0A}"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5"/>
          </p:nvPr>
        </p:nvSpPr>
        <p:spPr/>
        <p:txBody>
          <a:bodyPr/>
          <a:p>
            <a:fld id="{D44F2A86-E05F-467B-9157-2DF9B54B2559}"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CCA316C2-2B64-456E-A210-82049A277311}"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7AC2B1AC-ECA6-4AF0-B83F-D162B63FC295}"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C32B6370-A01F-46A3-8423-22979C88CDD1}"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A9339CA6-4794-4F5D-93B7-0E98EDED6DE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5"/>
          </p:nvPr>
        </p:nvSpPr>
        <p:spPr/>
        <p:txBody>
          <a:bodyPr/>
          <a:p>
            <a:fld id="{4E901497-B1AB-49E9-A2BE-38AD21881A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70C528B3-24D6-40A4-BEBC-F4A64F7443D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
          </p:nvPr>
        </p:nvSpPr>
        <p:spPr/>
        <p:txBody>
          <a:bodyPr/>
          <a:p>
            <a:fld id="{4328B2E0-5BFE-4BD6-95FF-BA74EE8CB06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5"/>
          </p:nvPr>
        </p:nvSpPr>
        <p:spPr/>
        <p:txBody>
          <a:bodyPr/>
          <a:p>
            <a:fld id="{17AAB908-847A-410E-B6EA-D6029C7068CF}"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B181F0A-8343-4CC4-962A-B7B0B709A1EC}"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3DEC8B0C-8FC7-49FB-B2D1-BFD7A8842746}"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4E1FCE1C-5FF3-43A7-B920-784DBB5489D5}"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7222EECC-BCBC-401C-A356-6730C3DB2F7C}"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6"/>
          </p:nvPr>
        </p:nvSpPr>
        <p:spPr/>
        <p:txBody>
          <a:bodyPr/>
          <a:p>
            <a:fld id="{2BDBF563-0B35-4F49-B0F2-EF55F09F2B22}"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6"/>
          </p:nvPr>
        </p:nvSpPr>
        <p:spPr/>
        <p:txBody>
          <a:bodyPr/>
          <a:p>
            <a:fld id="{E1E3F03B-B0DA-439C-9F41-1FE963E65FE8}"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F3B67C97-58A3-4279-BAD6-0A46F8FDADAE}"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C361480E-0A33-47D1-B099-FC1DFAC4C79F}"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E494513D-15C8-4E0F-8CDB-FA92225D05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0E65205D-D319-4A33-BDE5-92C55B98313D}"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D9B1DBC9-47EB-4EC9-92F9-829DD01F9026}"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6"/>
          </p:nvPr>
        </p:nvSpPr>
        <p:spPr/>
        <p:txBody>
          <a:bodyPr/>
          <a:p>
            <a:fld id="{7CEEF728-E303-48BD-860E-2C5AFA1B211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6"/>
          </p:nvPr>
        </p:nvSpPr>
        <p:spPr/>
        <p:txBody>
          <a:bodyPr/>
          <a:p>
            <a:fld id="{F00707E9-A0B4-482A-8A54-D586F4E4B735}"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59F84DE-E0F1-4D8C-931C-4DBF51FFF111}"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23560BF8-AF3F-4C62-B12E-A3890F75B1C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9799088F-8935-4CF4-8E38-CF59F7A91ED9}"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24FCCEBD-3468-42C0-A112-E0118BC1FCC1}"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7"/>
          </p:nvPr>
        </p:nvSpPr>
        <p:spPr/>
        <p:txBody>
          <a:bodyPr/>
          <a:p>
            <a:fld id="{44DD4616-843D-40C7-947C-EA985760A02D}"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7"/>
          </p:nvPr>
        </p:nvSpPr>
        <p:spPr/>
        <p:txBody>
          <a:bodyPr/>
          <a:p>
            <a:fld id="{E3E8C775-F708-4628-AA94-DD272240152C}"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6114191E-7180-4673-8530-B66E0055F8C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427571C9-9E54-4CCF-A88A-19A3D787750A}"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B89F220F-209F-4490-8BDB-1B3D780C3170}"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9AE6F90B-CF5A-44FB-96FA-BADBC62A7001}"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45FFBB99-E247-43BE-BFA6-C50B49F07331}"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7"/>
          </p:nvPr>
        </p:nvSpPr>
        <p:spPr/>
        <p:txBody>
          <a:bodyPr/>
          <a:p>
            <a:fld id="{71B20AE5-EE7F-4592-BBA9-307D0E1EA3A4}"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7"/>
          </p:nvPr>
        </p:nvSpPr>
        <p:spPr/>
        <p:txBody>
          <a:bodyPr/>
          <a:p>
            <a:fld id="{9E83B200-6734-47A6-AD79-252E51C0731B}"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1B10D1DB-0C6B-4633-AF66-7E9ED1935271}"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BFA18085-8EFF-4686-BDD1-861A097DC661}"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310FFE07-4664-4139-B5F2-F1E3D44DF8CF}"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24D551D6-D36B-495F-93B9-91E043BEB47F}"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8"/>
          </p:nvPr>
        </p:nvSpPr>
        <p:spPr/>
        <p:txBody>
          <a:bodyPr/>
          <a:p>
            <a:fld id="{C0271A4D-4D0D-4043-AB91-D9AFE96D74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F4763D79-9852-4952-B429-217B49800282}"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8"/>
          </p:nvPr>
        </p:nvSpPr>
        <p:spPr/>
        <p:txBody>
          <a:bodyPr/>
          <a:p>
            <a:fld id="{7A206DD9-0CAD-4232-A433-F8A7AAF8125A}"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AB82F78D-27B3-43D1-92D5-D622C1C46554}"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A9C4D776-5FB4-4C0F-9FC4-C83D9EF77CE4}"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E77F9B75-671A-420A-B0B3-2E32BA29D804}"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669C1E4D-BD74-43BA-A7AD-F55A834D06F3}"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8"/>
          </p:nvPr>
        </p:nvSpPr>
        <p:spPr/>
        <p:txBody>
          <a:bodyPr/>
          <a:p>
            <a:fld id="{21B789B6-F085-454E-85D9-F7771BC26782}"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8"/>
          </p:nvPr>
        </p:nvSpPr>
        <p:spPr/>
        <p:txBody>
          <a:bodyPr/>
          <a:p>
            <a:fld id="{CEEEECD6-A6DA-490F-9E3D-9C1533C99162}"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E37F8AE0-677E-493D-9FF4-098E432CF4FC}"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4BA6B901-FBCE-4305-A955-3EC6AF7B5E02}"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015B8417-5C3A-4435-BC93-6009EF6D32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9E3B4302-C78B-4A9E-BD17-A4EF06F0882A}"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F8980B08-C3AD-4127-8104-95899553175A}"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9"/>
          </p:nvPr>
        </p:nvSpPr>
        <p:spPr/>
        <p:txBody>
          <a:bodyPr/>
          <a:p>
            <a:fld id="{04353731-D545-4DB7-A58F-965693E39AA4}"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9"/>
          </p:nvPr>
        </p:nvSpPr>
        <p:spPr/>
        <p:txBody>
          <a:bodyPr/>
          <a:p>
            <a:fld id="{A230CB6B-E827-4108-8681-E7DD2A63CA49}"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EE03DF26-001B-47AB-B5FF-0260EC670C35}"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820F44C2-8EF6-4BCD-9412-4CB26B0FB191}"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44C37CC3-BD27-41B3-9941-E8D225D5189A}"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CFE72FA3-2BB6-4562-A6A9-733640E71AE2}"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9"/>
          </p:nvPr>
        </p:nvSpPr>
        <p:spPr/>
        <p:txBody>
          <a:bodyPr/>
          <a:p>
            <a:fld id="{154A6880-70D0-4370-B849-4845F0377A54}"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9"/>
          </p:nvPr>
        </p:nvSpPr>
        <p:spPr/>
        <p:txBody>
          <a:bodyPr/>
          <a:p>
            <a:fld id="{25DC637F-568A-437F-8554-862648DFFB5F}"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AFABCE06-D843-4CA8-AAEE-F52BAD4BE1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
          </p:nvPr>
        </p:nvSpPr>
        <p:spPr/>
        <p:txBody>
          <a:bodyPr/>
          <a:p>
            <a:fld id="{96075FA8-9FAA-413E-AA8A-FF46E2C6DCE9}"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F21F9709-BFB9-446C-90DB-AA7EAAC08A6B}"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B6D254BD-8096-4BBD-85C9-12CE66B3A990}"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39CFFF9F-0F74-4CA7-9333-56E5D4A8635C}"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0"/>
          </p:nvPr>
        </p:nvSpPr>
        <p:spPr/>
        <p:txBody>
          <a:bodyPr/>
          <a:p>
            <a:fld id="{6874BEC5-7314-49BD-8A7A-D88D8BC5C855}"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0"/>
          </p:nvPr>
        </p:nvSpPr>
        <p:spPr/>
        <p:txBody>
          <a:bodyPr/>
          <a:p>
            <a:fld id="{421FAEB1-9EE4-4319-8604-35E2FEA5F6E5}"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50D3C446-DA6D-4283-A3AF-EDAD44EF912F}"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9F78BBAF-E84B-4739-874A-6CD0C8123C31}"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8DA54599-BC17-4201-839C-8313EA8E448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C38C73AD-F355-4584-A9D3-A60611F2019B}"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0"/>
          </p:nvPr>
        </p:nvSpPr>
        <p:spPr/>
        <p:txBody>
          <a:bodyPr/>
          <a:p>
            <a:fld id="{58E2F48B-0520-4E6A-BF8E-7294E171E3C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
          </p:nvPr>
        </p:nvSpPr>
        <p:spPr/>
        <p:txBody>
          <a:bodyPr/>
          <a:p>
            <a:fld id="{4C29E458-9D4D-4BA3-8FBB-C8549E9C5938}"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0"/>
          </p:nvPr>
        </p:nvSpPr>
        <p:spPr/>
        <p:txBody>
          <a:bodyPr/>
          <a:p>
            <a:fld id="{BC26E2C2-2434-4DF4-8CA6-1C040A32678F}"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B5D838E-4AA3-4B31-835D-699892E7311F}"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FB130BC9-2C0F-43FB-9476-1733D3526AC7}"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C6B7BE27-7273-4781-867E-E6A5E5A9C30B}"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282C8A47-B581-4190-8EA8-1041F0F6EA1E}"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1"/>
          </p:nvPr>
        </p:nvSpPr>
        <p:spPr/>
        <p:txBody>
          <a:bodyPr/>
          <a:p>
            <a:fld id="{4506B7CE-0D2A-4605-8672-D5141F4042AE}"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1"/>
          </p:nvPr>
        </p:nvSpPr>
        <p:spPr/>
        <p:txBody>
          <a:bodyPr/>
          <a:p>
            <a:fld id="{20A79808-1E07-48CA-AB18-7AADA1E88C84}"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AFC69C94-DC32-4372-B8E1-910FCE3DBEE0}"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D8E9B67C-6824-4323-BA33-33B800C8672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CA74A8EE-EF1D-48E7-AC4C-6F75A8CA61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45F1F7-45B7-4A35-9749-5CA5289E2C8A}"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953AC89C-FC29-44C4-A141-547B5854F119}"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1"/>
          </p:nvPr>
        </p:nvSpPr>
        <p:spPr/>
        <p:txBody>
          <a:bodyPr/>
          <a:p>
            <a:fld id="{0285F749-B2FE-40CB-9961-3193D783D311}"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1"/>
          </p:nvPr>
        </p:nvSpPr>
        <p:spPr/>
        <p:txBody>
          <a:bodyPr/>
          <a:p>
            <a:fld id="{85F0B81E-164A-46F2-BF3B-49D3D0B209C4}"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31A682AA-5134-4B12-BC83-595BE68C7F02}"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C8207481-2B02-4105-92BB-F337845E64D0}"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24E56D4F-1C6E-44CC-871F-6821FC9CB812}"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D21DDEA7-395A-41E8-B12A-20C7414B60A6}"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2"/>
          </p:nvPr>
        </p:nvSpPr>
        <p:spPr/>
        <p:txBody>
          <a:bodyPr/>
          <a:p>
            <a:fld id="{D7339A80-F1A3-440C-A657-12EE8984E96F}"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2"/>
          </p:nvPr>
        </p:nvSpPr>
        <p:spPr/>
        <p:txBody>
          <a:bodyPr/>
          <a:p>
            <a:fld id="{25866EA8-F2EE-4663-B724-7D5EE2D60801}"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A73F0AC1-5B30-4344-A60A-1CE956E5DBB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DFCC0E74-E198-479D-AB6F-D9CCEF6137DD}"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7B57FB15-9533-4D26-9B9F-AE0073BEAAE0}"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24118021-4776-44C6-9B2E-76C4CFC909BB}"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D71DFCE0-59A8-4F88-892A-63A369DD9006}"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2"/>
          </p:nvPr>
        </p:nvSpPr>
        <p:spPr/>
        <p:txBody>
          <a:bodyPr/>
          <a:p>
            <a:fld id="{37470478-E53F-418A-A1CD-354F621B107D}"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2"/>
          </p:nvPr>
        </p:nvSpPr>
        <p:spPr/>
        <p:txBody>
          <a:bodyPr/>
          <a:p>
            <a:fld id="{276C9D72-EE89-44B9-8323-17C182BC048E}"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610C30AA-96B9-44FE-9C42-93A9EE1692A2}"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39435933-2F85-44E1-B070-7A22E02D7EF0}"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2C58D123-B359-4ECD-A25D-384EFECE06F3}"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0E1E32C9-5F90-4130-BD93-B6B542752BA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3"/>
          </p:nvPr>
        </p:nvSpPr>
        <p:spPr/>
        <p:txBody>
          <a:bodyPr/>
          <a:p>
            <a:fld id="{582073F3-2E26-45DF-804B-ACE3CE93C79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BC44DB23-CE85-4835-88ED-D699185ACE7A}"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3"/>
          </p:nvPr>
        </p:nvSpPr>
        <p:spPr/>
        <p:txBody>
          <a:bodyPr/>
          <a:p>
            <a:fld id="{07642026-4632-450C-B163-751832D9752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C5B4FA65-D393-42B6-91BC-AB83BFF3AE36}"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FD47EC4D-913B-41CF-A3F9-8C74380BCCCF}"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6264739E-C6A4-4263-871F-2E0B86AED6AD}"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04C96750-4559-4AA2-8BA6-4099FD058B2A}"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3"/>
          </p:nvPr>
        </p:nvSpPr>
        <p:spPr/>
        <p:txBody>
          <a:bodyPr/>
          <a:p>
            <a:fld id="{F3F25427-D4C5-4948-A685-E5C8197DBBC9}"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3"/>
          </p:nvPr>
        </p:nvSpPr>
        <p:spPr/>
        <p:txBody>
          <a:bodyPr/>
          <a:p>
            <a:fld id="{F191F07D-BBAC-4526-9B2D-4B189B431BCD}"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5A1D02C7-540C-481C-8166-7107584E2B62}"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89322858-C071-46F5-B5AD-50DBF30A0092}"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7551E587-949E-4146-B8B8-25A003A03E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AC281137-5FC2-4FCC-AC72-B7C6BC8D9C9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C63F9B3D-EF0E-42CD-9629-67B5E03BC287}"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78A42817-817C-455F-B3B1-4601FB6654A8}"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4"/>
          </p:nvPr>
        </p:nvSpPr>
        <p:spPr/>
        <p:txBody>
          <a:bodyPr/>
          <a:p>
            <a:fld id="{C47C9307-2161-489D-979B-B5F04AB8B270}"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4"/>
          </p:nvPr>
        </p:nvSpPr>
        <p:spPr/>
        <p:txBody>
          <a:bodyPr/>
          <a:p>
            <a:fld id="{650FC74A-D915-4424-B6AD-A45A0FA447AC}"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4E1000CA-1C7D-45A3-AC2B-BCFE77EE5068}"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BB41C132-4211-4A92-A085-E9287354ED26}"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4D3C889E-ECFA-4B89-9FD7-E6D1DD5EEC50}"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7B3E8072-81C1-4EBE-BBF3-0AA1E23B72A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4"/>
          </p:nvPr>
        </p:nvSpPr>
        <p:spPr/>
        <p:txBody>
          <a:bodyPr/>
          <a:p>
            <a:fld id="{1201642F-08B0-4DD9-99AD-EE412979E631}"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4"/>
          </p:nvPr>
        </p:nvSpPr>
        <p:spPr/>
        <p:txBody>
          <a:bodyPr/>
          <a:p>
            <a:fld id="{75EE929F-8766-4B68-B38C-92EB380DCAF9}"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627298A9-7917-4A9D-A58E-4C611A1FE63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4"/>
          </p:nvPr>
        </p:nvSpPr>
        <p:spPr/>
        <p:txBody>
          <a:bodyPr/>
          <a:p>
            <a:fld id="{29C26A58-4656-4F4C-BA6A-1F60C55CCCD0}"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3D7FDEE8-1929-4BB3-9483-FFCE50D63ACC}"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558415B5-B2D4-4820-8D82-A885C6222371}"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A9DEECAF-C271-43F9-91EE-2ACA1BB1CC0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5"/>
          </p:nvPr>
        </p:nvSpPr>
        <p:spPr/>
        <p:txBody>
          <a:bodyPr/>
          <a:p>
            <a:fld id="{F15C7444-D5DB-46B7-98EE-3F16D88226F4}"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5"/>
          </p:nvPr>
        </p:nvSpPr>
        <p:spPr/>
        <p:txBody>
          <a:bodyPr/>
          <a:p>
            <a:fld id="{C89FB80C-9CD0-41C5-8D2E-0AE74D1367DF}"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C2F818E6-6097-4C6B-A678-BA93C493619B}"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1FA8C5A2-E31B-492C-AA58-D2A0460B9B7C}"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601B2FAE-012D-4906-8B7E-D856E0F56EE5}"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8DA106E1-D820-4231-B586-11648D8369B0}"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5"/>
          </p:nvPr>
        </p:nvSpPr>
        <p:spPr/>
        <p:txBody>
          <a:bodyPr/>
          <a:p>
            <a:fld id="{9943FC7F-A8D1-48B1-A5DB-E938F973976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24F9023D-C620-408B-9EF5-2C1D6CF2E973}"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5"/>
          </p:nvPr>
        </p:nvSpPr>
        <p:spPr/>
        <p:txBody>
          <a:bodyPr/>
          <a:p>
            <a:fld id="{0C10C50C-7829-438F-9664-FAB41CCEE2E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E7EB79CE-88D8-4FB8-931F-047E613F2F7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645FE963-ED09-4CEF-BEC7-1B013722E1D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8C42F054-B5E1-4E7D-98E9-757334E9562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1C286440-B79B-4D78-BB95-2E7C7D148CC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D2DC6B66-A62B-4F13-9862-81E1A76A63D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703BD4A9-A135-40C5-8E50-44626B34BB5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9BD8023-D54F-48E1-AA20-75DD695757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
          </p:nvPr>
        </p:nvSpPr>
        <p:spPr/>
        <p:txBody>
          <a:bodyPr/>
          <a:p>
            <a:fld id="{D03B2557-DAAF-46AF-A51A-3543EAEDFEE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EF699A35-B25C-445B-A22A-CE18AB1E243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25206D5E-B5DF-4B79-89E6-5420D94B6F7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6A6A1686-DBFF-4811-932D-208775CD682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5"/>
          </p:nvPr>
        </p:nvSpPr>
        <p:spPr/>
        <p:txBody>
          <a:bodyPr/>
          <a:p>
            <a:fld id="{F76BCE07-A03A-49D3-AC3C-61C200F6D2D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
          </p:nvPr>
        </p:nvSpPr>
        <p:spPr/>
        <p:txBody>
          <a:bodyPr/>
          <a:p>
            <a:fld id="{07C1B264-AFA9-4F66-B64F-51A042222F2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819206DB-57A5-4499-88ED-3E2EEA9C511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2AC9E143-6A06-4678-8911-49AD82DD8F4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1E2AC9FD-0807-439D-9D9C-F2F2C9CFC3E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0D657968-6B9E-44AD-8773-6FE9F3AC3DF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
          </p:nvPr>
        </p:nvSpPr>
        <p:spPr/>
        <p:txBody>
          <a:bodyPr/>
          <a:p>
            <a:fld id="{EA8C12D1-CDCF-481C-A6F3-908651337A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6C00EF9B-2C4E-42A5-B329-BB99D29AE20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
          </p:nvPr>
        </p:nvSpPr>
        <p:spPr/>
        <p:txBody>
          <a:bodyPr/>
          <a:p>
            <a:fld id="{21AA5E73-5323-4DEC-AA4B-1A5FDB995E8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20BD898-7523-48C5-829A-E3218D945E8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D1236562-75EE-434E-BC63-E4DB4B2568C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5959E36E-45B5-480E-830C-C80F803CE98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3962433C-4809-4D6C-B150-224C225AC77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6"/>
          </p:nvPr>
        </p:nvSpPr>
        <p:spPr/>
        <p:txBody>
          <a:bodyPr/>
          <a:p>
            <a:fld id="{B3C93A81-08A0-4577-B536-C3D724DA8C4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
          </p:nvPr>
        </p:nvSpPr>
        <p:spPr/>
        <p:txBody>
          <a:bodyPr/>
          <a:p>
            <a:fld id="{3D47A2CD-0D7E-4DBC-AE88-DC796E85822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4EC1750D-0284-4D4E-97CC-307FC4B0FF2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24698F74-1BD9-42B5-9B0E-D863AFBBA20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329732EE-3C46-4C50-ABDC-CE1ABD9710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0D80D35B-E5C6-45A3-9888-D514CD95CD8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85A63901-41DF-445C-AD21-D0370DBFB74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
          </p:nvPr>
        </p:nvSpPr>
        <p:spPr/>
        <p:txBody>
          <a:bodyPr/>
          <a:p>
            <a:fld id="{9891A6D6-9040-4760-BB04-CC1A498ADD6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
          </p:nvPr>
        </p:nvSpPr>
        <p:spPr/>
        <p:txBody>
          <a:bodyPr/>
          <a:p>
            <a:fld id="{162423CD-4590-4295-8678-24355729A84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E9F1EF7-5EF5-44BD-A608-C3E68E874C3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34B62A88-0B8C-4B7E-B75C-C003B51530E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DFAA3D2E-529B-4DE0-88EB-09A3BD6FAA7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3057E90D-25A6-4860-B84F-3F7BECC2140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7"/>
          </p:nvPr>
        </p:nvSpPr>
        <p:spPr/>
        <p:txBody>
          <a:bodyPr/>
          <a:p>
            <a:fld id="{F436DF16-8BE6-406F-B460-240D90608FD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
          </p:nvPr>
        </p:nvSpPr>
        <p:spPr/>
        <p:txBody>
          <a:bodyPr/>
          <a:p>
            <a:fld id="{A6E0D763-29E1-4561-8878-694E0F6023B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93067267-8AA4-4226-A3D6-C86E5EE645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905BF217-89B0-42A7-9390-DA8B25F4F01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F23EF478-8EE7-4334-823C-9E068ADBCD7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5214878F-F28F-4CC9-94B0-89A681FFF52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6916CBB5-ECDA-47DA-A2FE-D97D6DA8821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
          </p:nvPr>
        </p:nvSpPr>
        <p:spPr/>
        <p:txBody>
          <a:bodyPr/>
          <a:p>
            <a:fld id="{DEBDB6D0-DD38-41EF-A2E4-4501BB14D0E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
          </p:nvPr>
        </p:nvSpPr>
        <p:spPr/>
        <p:txBody>
          <a:bodyPr/>
          <a:p>
            <a:fld id="{401A9600-A6CC-4FDC-AA42-C143629BAC0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4971EE6-F5D4-4574-A14D-8B16886C6C3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12792277-2718-4283-A103-9223295BA3C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064B5F8A-6197-493B-85B8-B2F40EE2353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3257479F-E7D7-4F22-81AB-54F5DD6C3BA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8"/>
          </p:nvPr>
        </p:nvSpPr>
        <p:spPr/>
        <p:txBody>
          <a:bodyPr/>
          <a:p>
            <a:fld id="{3D9954DA-CA78-4BC0-BC7A-7A05BCFD2B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DF79F057-969D-45D1-82E7-724E8DBF6BB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
          </p:nvPr>
        </p:nvSpPr>
        <p:spPr/>
        <p:txBody>
          <a:bodyPr/>
          <a:p>
            <a:fld id="{439705B9-78CB-43AC-91B9-F03F229AB1A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357881C3-01C6-4C95-8D4F-18DC8418C0F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82F2A9E7-164B-48BC-901E-350AA91C9E1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3B7BAF35-B644-4C44-BBEB-E56546D5321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CDAB5440-37D4-4995-ADB2-E6F8DC677E2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
          </p:nvPr>
        </p:nvSpPr>
        <p:spPr/>
        <p:txBody>
          <a:bodyPr/>
          <a:p>
            <a:fld id="{3CF2BC3E-837F-47E1-A01F-90ABD5777D7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
          </p:nvPr>
        </p:nvSpPr>
        <p:spPr/>
        <p:txBody>
          <a:bodyPr/>
          <a:p>
            <a:fld id="{E4919045-B769-4910-B4A0-9ADC61012FD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AF40A6B-29ED-44E4-B401-3321F2CEBE6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12A0A025-7D67-4D65-B117-7863627D68D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0950DB62-092D-4788-8DFF-43B9EB9729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sldNum" idx="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888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32DE-9D14-4D48-9417-F418E4AD2919}" type="slidenum">
              <a:rPr b="0" lang="pt-BR"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52"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53" name="PlaceHolder 3"/>
          <p:cNvSpPr>
            <a:spLocks noGrp="1"/>
          </p:cNvSpPr>
          <p:nvPr>
            <p:ph type="sldNum" idx="10"/>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ED959-CFAA-4AC7-960E-C7302899BD99}"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2" name="PlaceHolder 3"/>
          <p:cNvSpPr>
            <a:spLocks noGrp="1"/>
          </p:cNvSpPr>
          <p:nvPr>
            <p:ph type="sldNum" idx="1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1A7520-4874-4FB2-B673-1FDDC382AFB5}"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1" name="PlaceHolder 3"/>
          <p:cNvSpPr>
            <a:spLocks noGrp="1"/>
          </p:cNvSpPr>
          <p:nvPr>
            <p:ph type="sldNum" idx="1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FD5F1-C3F6-4C29-A3A7-513FDE1DB06E}"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0" name="PlaceHolder 3"/>
          <p:cNvSpPr>
            <a:spLocks noGrp="1"/>
          </p:cNvSpPr>
          <p:nvPr>
            <p:ph type="sldNum" idx="1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95073-00F1-4383-B1ED-85177CAC5116}"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0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09" name="PlaceHolder 3"/>
          <p:cNvSpPr>
            <a:spLocks noGrp="1"/>
          </p:cNvSpPr>
          <p:nvPr>
            <p:ph type="sldNum" idx="14"/>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6CABE-F22B-477E-9DB1-5ED406B0A1C6}"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4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48" name="PlaceHolder 3"/>
          <p:cNvSpPr>
            <a:spLocks noGrp="1"/>
          </p:cNvSpPr>
          <p:nvPr>
            <p:ph type="sldNum" idx="15"/>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D7E69-1013-4A0D-B8F1-5197A4447BD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87" name="PlaceHolder 3"/>
          <p:cNvSpPr>
            <a:spLocks noGrp="1"/>
          </p:cNvSpPr>
          <p:nvPr>
            <p:ph type="sldNum" idx="1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C2B82-F11E-43DD-B93A-06B2663F3595}"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26" name="PlaceHolder 3"/>
          <p:cNvSpPr>
            <a:spLocks noGrp="1"/>
          </p:cNvSpPr>
          <p:nvPr>
            <p:ph type="sldNum" idx="1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7F8EC-4F7C-49C7-A2BC-879F7242061D}"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image2.png" descr=""/>
          <p:cNvPicPr/>
          <p:nvPr/>
        </p:nvPicPr>
        <p:blipFill>
          <a:blip r:embed="rId2"/>
          <a:stretch/>
        </p:blipFill>
        <p:spPr>
          <a:xfrm>
            <a:off x="0" y="0"/>
            <a:ext cx="9144000" cy="6858000"/>
          </a:xfrm>
          <a:prstGeom prst="rect">
            <a:avLst/>
          </a:prstGeom>
          <a:ln w="0">
            <a:noFill/>
          </a:ln>
        </p:spPr>
      </p:pic>
      <p:sp>
        <p:nvSpPr>
          <p:cNvPr id="6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66" name="PlaceHolder 3"/>
          <p:cNvSpPr>
            <a:spLocks noGrp="1"/>
          </p:cNvSpPr>
          <p:nvPr>
            <p:ph type="sldNum" idx="18"/>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66207-4501-497B-A0FB-835FBF57321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image2.png" descr=""/>
          <p:cNvPicPr/>
          <p:nvPr/>
        </p:nvPicPr>
        <p:blipFill>
          <a:blip r:embed="rId2"/>
          <a:stretch/>
        </p:blipFill>
        <p:spPr>
          <a:xfrm>
            <a:off x="0" y="0"/>
            <a:ext cx="9144000" cy="6858000"/>
          </a:xfrm>
          <a:prstGeom prst="rect">
            <a:avLst/>
          </a:prstGeom>
          <a:ln w="0">
            <a:noFill/>
          </a:ln>
        </p:spPr>
      </p:pic>
      <p:sp>
        <p:nvSpPr>
          <p:cNvPr id="7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06" name="PlaceHolder 3"/>
          <p:cNvSpPr>
            <a:spLocks noGrp="1"/>
          </p:cNvSpPr>
          <p:nvPr>
            <p:ph type="sldNum" idx="19"/>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5EA165-F902-4537-86FF-A4F955A7238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 name="PlaceHolder 3"/>
          <p:cNvSpPr>
            <a:spLocks noGrp="1"/>
          </p:cNvSpPr>
          <p:nvPr>
            <p:ph type="sldNum" idx="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888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6638-EFA2-42AD-B7B8-76FB9EC63292}" type="slidenum">
              <a:rPr b="0" lang="pt-BR"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45" name="PlaceHolder 3"/>
          <p:cNvSpPr>
            <a:spLocks noGrp="1"/>
          </p:cNvSpPr>
          <p:nvPr>
            <p:ph type="sldNum" idx="20"/>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F87EA-1309-4953-AFED-CB2DB515F2B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8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84" name="PlaceHolder 3"/>
          <p:cNvSpPr>
            <a:spLocks noGrp="1"/>
          </p:cNvSpPr>
          <p:nvPr>
            <p:ph type="sldNum" idx="2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7AFF3-B72A-44A9-BF09-347B34B749F1}"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2"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23" name="PlaceHolder 3"/>
          <p:cNvSpPr>
            <a:spLocks noGrp="1"/>
          </p:cNvSpPr>
          <p:nvPr>
            <p:ph type="sldNum" idx="2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E26D7-902C-4DCB-8C91-1CA2DD5E08F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2" name="PlaceHolder 3"/>
          <p:cNvSpPr>
            <a:spLocks noGrp="1"/>
          </p:cNvSpPr>
          <p:nvPr>
            <p:ph type="sldNum" idx="2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2A158-C4E0-4F96-9B74-D4AAAFD2E162}"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0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01" name="PlaceHolder 3"/>
          <p:cNvSpPr>
            <a:spLocks noGrp="1"/>
          </p:cNvSpPr>
          <p:nvPr>
            <p:ph type="sldNum" idx="24"/>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47E15-9BF1-4E3B-9713-9255F5F29AA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3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40" name="PlaceHolder 3"/>
          <p:cNvSpPr>
            <a:spLocks noGrp="1"/>
          </p:cNvSpPr>
          <p:nvPr>
            <p:ph type="sldNum" idx="25"/>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1AB66-C715-4490-B24B-69D48331C622}"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7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79" name="PlaceHolder 3"/>
          <p:cNvSpPr>
            <a:spLocks noGrp="1"/>
          </p:cNvSpPr>
          <p:nvPr>
            <p:ph type="sldNum" idx="2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259D4-9DF4-458C-B7E3-FD3E2051A6EF}"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1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18" name="PlaceHolder 3"/>
          <p:cNvSpPr>
            <a:spLocks noGrp="1"/>
          </p:cNvSpPr>
          <p:nvPr>
            <p:ph type="sldNum" idx="2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7D7F8-F1AC-45F5-BCA1-B14EAFE7549D}"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5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57" name="PlaceHolder 3"/>
          <p:cNvSpPr>
            <a:spLocks noGrp="1"/>
          </p:cNvSpPr>
          <p:nvPr>
            <p:ph type="sldNum" idx="28"/>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8B137-4895-4BA2-904E-4C0720FE7530}"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image1.png" descr=""/>
          <p:cNvPicPr/>
          <p:nvPr/>
        </p:nvPicPr>
        <p:blipFill>
          <a:blip r:embed="rId2"/>
          <a:stretch/>
        </p:blipFill>
        <p:spPr>
          <a:xfrm>
            <a:off x="0" y="0"/>
            <a:ext cx="9144000" cy="6858000"/>
          </a:xfrm>
          <a:prstGeom prst="rect">
            <a:avLst/>
          </a:prstGeom>
          <a:ln w="0">
            <a:noFill/>
          </a:ln>
        </p:spPr>
      </p:pic>
      <p:sp>
        <p:nvSpPr>
          <p:cNvPr id="10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9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97" name="PlaceHolder 3"/>
          <p:cNvSpPr>
            <a:spLocks noGrp="1"/>
          </p:cNvSpPr>
          <p:nvPr>
            <p:ph type="sldNum" idx="29"/>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55101-086F-40EF-9154-B20244681A70}"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0" name="PlaceHolder 3"/>
          <p:cNvSpPr>
            <a:spLocks noGrp="1"/>
          </p:cNvSpPr>
          <p:nvPr>
            <p:ph type="sldNum" idx="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29C97-6E92-43D8-9A7C-174C3C5E25DC}"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3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36" name="PlaceHolder 3"/>
          <p:cNvSpPr>
            <a:spLocks noGrp="1"/>
          </p:cNvSpPr>
          <p:nvPr>
            <p:ph type="sldNum" idx="30"/>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721E8-44F9-4465-8A3C-BE331655B45B}"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3" name="image2.png" descr=""/>
          <p:cNvPicPr/>
          <p:nvPr/>
        </p:nvPicPr>
        <p:blipFill>
          <a:blip r:embed="rId2"/>
          <a:stretch/>
        </p:blipFill>
        <p:spPr>
          <a:xfrm>
            <a:off x="0" y="0"/>
            <a:ext cx="9144000" cy="6858000"/>
          </a:xfrm>
          <a:prstGeom prst="rect">
            <a:avLst/>
          </a:prstGeom>
          <a:ln w="0">
            <a:noFill/>
          </a:ln>
        </p:spPr>
      </p:pic>
      <p:sp>
        <p:nvSpPr>
          <p:cNvPr id="117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7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76" name="PlaceHolder 3"/>
          <p:cNvSpPr>
            <a:spLocks noGrp="1"/>
          </p:cNvSpPr>
          <p:nvPr>
            <p:ph type="sldNum" idx="31"/>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872EB-4DC1-41D8-9CDA-37A2030FA4D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1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5" name="PlaceHolder 3"/>
          <p:cNvSpPr>
            <a:spLocks noGrp="1"/>
          </p:cNvSpPr>
          <p:nvPr>
            <p:ph type="sldNum" idx="3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FB7C2-2554-426B-A012-C58B80DE236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5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4" name="PlaceHolder 3"/>
          <p:cNvSpPr>
            <a:spLocks noGrp="1"/>
          </p:cNvSpPr>
          <p:nvPr>
            <p:ph type="sldNum" idx="3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1630C-D21B-4BC2-9B14-F231ED526E2C}"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1" name="image2.png" descr=""/>
          <p:cNvPicPr/>
          <p:nvPr/>
        </p:nvPicPr>
        <p:blipFill>
          <a:blip r:embed="rId2"/>
          <a:stretch/>
        </p:blipFill>
        <p:spPr>
          <a:xfrm>
            <a:off x="0" y="0"/>
            <a:ext cx="9144000" cy="6858000"/>
          </a:xfrm>
          <a:prstGeom prst="rect">
            <a:avLst/>
          </a:prstGeom>
          <a:ln w="0">
            <a:noFill/>
          </a:ln>
        </p:spPr>
      </p:pic>
      <p:sp>
        <p:nvSpPr>
          <p:cNvPr id="12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9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4" name="PlaceHolder 3"/>
          <p:cNvSpPr>
            <a:spLocks noGrp="1"/>
          </p:cNvSpPr>
          <p:nvPr>
            <p:ph type="sldNum" idx="34"/>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5C6FE-78D3-4CFD-AF3E-D24982051B7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1" name="image2.png" descr=""/>
          <p:cNvPicPr/>
          <p:nvPr/>
        </p:nvPicPr>
        <p:blipFill>
          <a:blip r:embed="rId2"/>
          <a:stretch/>
        </p:blipFill>
        <p:spPr>
          <a:xfrm>
            <a:off x="0" y="0"/>
            <a:ext cx="9144000" cy="6858000"/>
          </a:xfrm>
          <a:prstGeom prst="rect">
            <a:avLst/>
          </a:prstGeom>
          <a:ln w="0">
            <a:noFill/>
          </a:ln>
        </p:spPr>
      </p:pic>
      <p:sp>
        <p:nvSpPr>
          <p:cNvPr id="13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3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4" name="PlaceHolder 3"/>
          <p:cNvSpPr>
            <a:spLocks noGrp="1"/>
          </p:cNvSpPr>
          <p:nvPr>
            <p:ph type="sldNum" idx="35"/>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02CB6-E215-462F-8440-91BCD63FFA1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9" name="PlaceHolder 3"/>
          <p:cNvSpPr>
            <a:spLocks noGrp="1"/>
          </p:cNvSpPr>
          <p:nvPr>
            <p:ph type="sldNum" idx="4"/>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C5CE0-DCAA-420D-98F4-8E0386132E5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8" name="PlaceHolder 3"/>
          <p:cNvSpPr>
            <a:spLocks noGrp="1"/>
          </p:cNvSpPr>
          <p:nvPr>
            <p:ph type="sldNum" idx="5"/>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5E35D-DFAE-4EF4-9F32-7880C5BD8896}"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7" name="PlaceHolder 3"/>
          <p:cNvSpPr>
            <a:spLocks noGrp="1"/>
          </p:cNvSpPr>
          <p:nvPr>
            <p:ph type="sldNum" idx="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3E898-E59C-4A11-BC5B-BD35580FF133}"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6" name="PlaceHolder 3"/>
          <p:cNvSpPr>
            <a:spLocks noGrp="1"/>
          </p:cNvSpPr>
          <p:nvPr>
            <p:ph type="sldNum" idx="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26111-5AD1-42E5-9FDA-B6B89F653422}"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75" name="PlaceHolder 3"/>
          <p:cNvSpPr>
            <a:spLocks noGrp="1"/>
          </p:cNvSpPr>
          <p:nvPr>
            <p:ph type="sldNum" idx="8"/>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C585F-921A-4F25-B3A6-4744755523D5}"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14" name="PlaceHolder 3"/>
          <p:cNvSpPr>
            <a:spLocks noGrp="1"/>
          </p:cNvSpPr>
          <p:nvPr>
            <p:ph type="sldNum" idx="9"/>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2CC81-C9E1-4BD0-9DA8-58749BBA423C}"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1" name="image3.png" descr=""/>
          <p:cNvPicPr/>
          <p:nvPr/>
        </p:nvPicPr>
        <p:blipFill>
          <a:blip r:embed="rId1"/>
          <a:stretch/>
        </p:blipFill>
        <p:spPr>
          <a:xfrm>
            <a:off x="0" y="0"/>
            <a:ext cx="9144000" cy="6858000"/>
          </a:xfrm>
          <a:prstGeom prst="rect">
            <a:avLst/>
          </a:prstGeom>
          <a:ln w="0">
            <a:noFill/>
          </a:ln>
        </p:spPr>
      </p:pic>
      <p:sp>
        <p:nvSpPr>
          <p:cNvPr id="1372" name="Shape 186"/>
          <p:cNvSpPr/>
          <p:nvPr/>
        </p:nvSpPr>
        <p:spPr>
          <a:xfrm>
            <a:off x="0" y="3987720"/>
            <a:ext cx="9144000" cy="255132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PlaceHolder 1"/>
          <p:cNvSpPr>
            <a:spLocks noGrp="1"/>
          </p:cNvSpPr>
          <p:nvPr>
            <p:ph type="title"/>
          </p:nvPr>
        </p:nvSpPr>
        <p:spPr>
          <a:xfrm>
            <a:off x="396720" y="3987360"/>
            <a:ext cx="8280720" cy="255132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t-BR" sz="3200" spc="-1" strike="noStrike">
                <a:solidFill>
                  <a:srgbClr val="ffffff"/>
                </a:solidFill>
                <a:latin typeface="Calibri"/>
                <a:ea typeface="Calibri"/>
              </a:rPr>
              <a:t>CONSELHO NACIONAL DE PREVIDÊNCIA</a:t>
            </a:r>
            <a:br>
              <a:rPr sz="3200"/>
            </a:br>
            <a:br>
              <a:rPr sz="3600"/>
            </a:br>
            <a:r>
              <a:rPr b="1" lang="pt-BR" sz="3600" spc="-1" strike="noStrike">
                <a:solidFill>
                  <a:srgbClr val="ffffff"/>
                </a:solidFill>
                <a:latin typeface="Calibri"/>
                <a:ea typeface="Calibri"/>
              </a:rPr>
              <a:t>07 de Agosto de 2017</a:t>
            </a:r>
            <a:br>
              <a:rPr sz="3200"/>
            </a:br>
            <a:endParaRPr b="0" lang="en-US" sz="3600" spc="-1" strike="noStrike">
              <a:solidFill>
                <a:srgbClr val="000000"/>
              </a:solidFill>
              <a:latin typeface="Calibri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3" name="image3.png" descr=""/>
          <p:cNvPicPr/>
          <p:nvPr/>
        </p:nvPicPr>
        <p:blipFill>
          <a:blip r:embed="rId1"/>
          <a:stretch/>
        </p:blipFill>
        <p:spPr>
          <a:xfrm>
            <a:off x="0" y="0"/>
            <a:ext cx="9144000" cy="6858000"/>
          </a:xfrm>
          <a:prstGeom prst="rect">
            <a:avLst/>
          </a:prstGeom>
          <a:ln w="0">
            <a:noFill/>
          </a:ln>
        </p:spPr>
      </p:pic>
      <p:sp>
        <p:nvSpPr>
          <p:cNvPr id="1394" name="Shape 186"/>
          <p:cNvSpPr/>
          <p:nvPr/>
        </p:nvSpPr>
        <p:spPr>
          <a:xfrm>
            <a:off x="0" y="3987720"/>
            <a:ext cx="9144000" cy="255132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PlaceHolder 1"/>
          <p:cNvSpPr>
            <a:spLocks noGrp="1"/>
          </p:cNvSpPr>
          <p:nvPr>
            <p:ph type="title"/>
          </p:nvPr>
        </p:nvSpPr>
        <p:spPr>
          <a:xfrm>
            <a:off x="396720" y="3987360"/>
            <a:ext cx="8280720" cy="255132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t-BR" sz="7200" spc="-1" strike="noStrike">
                <a:solidFill>
                  <a:srgbClr val="ffffff"/>
                </a:solidFill>
                <a:latin typeface="Brush Script MT"/>
                <a:ea typeface="Calibri"/>
              </a:rPr>
              <a:t>OBRIGADO </a:t>
            </a:r>
            <a:br>
              <a:rPr sz="7200"/>
            </a:br>
            <a:br>
              <a:rPr sz="3200"/>
            </a:br>
            <a:endParaRPr b="0" lang="en-US" sz="7200" spc="-1" strike="noStrike">
              <a:solidFill>
                <a:srgbClr val="000000"/>
              </a:solidFill>
              <a:latin typeface="Calibri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4" name="image4.png" descr=""/>
          <p:cNvPicPr/>
          <p:nvPr/>
        </p:nvPicPr>
        <p:blipFill>
          <a:blip r:embed="rId1"/>
          <a:stretch/>
        </p:blipFill>
        <p:spPr>
          <a:xfrm>
            <a:off x="0" y="0"/>
            <a:ext cx="9144000" cy="6858000"/>
          </a:xfrm>
          <a:prstGeom prst="rect">
            <a:avLst/>
          </a:prstGeom>
          <a:ln w="0">
            <a:noFill/>
          </a:ln>
        </p:spPr>
      </p:pic>
      <p:sp>
        <p:nvSpPr>
          <p:cNvPr id="1375" name="PlaceHolder 1"/>
          <p:cNvSpPr>
            <a:spLocks noGrp="1"/>
          </p:cNvSpPr>
          <p:nvPr>
            <p:ph type="title"/>
          </p:nvPr>
        </p:nvSpPr>
        <p:spPr>
          <a:xfrm>
            <a:off x="-360" y="0"/>
            <a:ext cx="3840120" cy="2852640"/>
          </a:xfrm>
          <a:prstGeom prst="rect">
            <a:avLst/>
          </a:prstGeom>
          <a:noFill/>
          <a:ln w="0">
            <a:noFill/>
          </a:ln>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 </a:t>
            </a:r>
            <a:endParaRPr b="0" lang="en-US" sz="4000" spc="-1" strike="noStrike">
              <a:solidFill>
                <a:srgbClr val="000000"/>
              </a:solidFill>
              <a:latin typeface="Calibri Light"/>
            </a:endParaRPr>
          </a:p>
        </p:txBody>
      </p:sp>
      <p:sp>
        <p:nvSpPr>
          <p:cNvPr id="1376" name="Shape 186"/>
          <p:cNvSpPr/>
          <p:nvPr/>
        </p:nvSpPr>
        <p:spPr>
          <a:xfrm>
            <a:off x="119160" y="3736800"/>
            <a:ext cx="9144000" cy="291636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4400" spc="-1" strike="noStrike">
                <a:solidFill>
                  <a:srgbClr val="ffffff"/>
                </a:solidFill>
                <a:latin typeface="Calibri"/>
                <a:ea typeface="Calibri"/>
              </a:rPr>
              <a:t>APRESENTAÇÃO: Reparcelamento da Divida Previdenciária dos Municípios </a:t>
            </a: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Calibri"/>
                <a:ea typeface="Calibri"/>
              </a:rPr>
              <a:t>Sergio Aureliano</a:t>
            </a: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Confederação Nacional de Municípios.</a:t>
            </a:r>
            <a:endParaRPr b="0" lang="en-US" sz="3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Calibri"/>
                <a:ea typeface="Calibri"/>
              </a:rPr>
              <a:t> </a:t>
            </a:r>
            <a:endParaRPr b="0" lang="en-US" sz="4000" spc="-1" strike="noStrike">
              <a:solidFill>
                <a:srgbClr val="000000"/>
              </a:solidFill>
              <a:latin typeface="Calibri Light"/>
            </a:endParaRPr>
          </a:p>
        </p:txBody>
      </p:sp>
      <p:sp>
        <p:nvSpPr>
          <p:cNvPr id="1378" name="PlaceHolder 2"/>
          <p:cNvSpPr>
            <a:spLocks noGrp="1"/>
          </p:cNvSpPr>
          <p:nvPr>
            <p:ph/>
          </p:nvPr>
        </p:nvSpPr>
        <p:spPr>
          <a:xfrm>
            <a:off x="162000" y="866880"/>
            <a:ext cx="8820000" cy="4906800"/>
          </a:xfrm>
          <a:prstGeom prst="rect">
            <a:avLst/>
          </a:prstGeom>
          <a:noFill/>
          <a:ln w="0">
            <a:noFill/>
          </a:ln>
        </p:spPr>
        <p:txBody>
          <a:bodyPr lIns="45720" rIns="45720" anchor="t">
            <a:normAutofit/>
          </a:bodyPr>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2060"/>
                </a:solidFill>
                <a:latin typeface="Arial"/>
                <a:ea typeface="Arial"/>
              </a:rPr>
              <a:t>Reparcelamento da dívida do Regime Geral de Previdência Social – Medida Provisória 778/2017</a:t>
            </a:r>
            <a:endParaRPr b="0" lang="en-US" sz="4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0" name="PlaceHolder 2"/>
          <p:cNvSpPr>
            <a:spLocks noGrp="1"/>
          </p:cNvSpPr>
          <p:nvPr>
            <p:ph/>
          </p:nvPr>
        </p:nvSpPr>
        <p:spPr>
          <a:xfrm>
            <a:off x="162000" y="1270080"/>
            <a:ext cx="8820000" cy="4906800"/>
          </a:xfrm>
          <a:prstGeom prst="rect">
            <a:avLst/>
          </a:prstGeom>
          <a:noFill/>
          <a:ln w="0">
            <a:noFill/>
          </a:ln>
        </p:spPr>
        <p:txBody>
          <a:bodyPr lIns="45720" rIns="45720" anchor="t">
            <a:normAutofit fontScale="93000"/>
          </a:bodyPr>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s débitos podem ser parcelados em até 200 meses, dependendo do montante da dívida em relação à RCL do Município. Essas parcelas serão divididas em 3 grupos: </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6 parcelas, a serem pagas de julho a dezembro de 2017, cada uma de 0,4% da dívida consolida, sem nenhum desconto de multa ou juros, totalizando 2,4% da dívida; </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194 parcelas mensais correspondente à divisão da consolidação da divida,  reduzida de 25% das multas e 80 % dos juros, total das parcelas pagas de Julho a Dezembro/2017, a partir de janeiro de 2018, limitadas a 1% da RCL (caso o Município tenha dívidas inscritas em dívida ativa, terá um parcelamento da RFB e outro da PGFN, cada um limitado a 0,5% da RCL, totalizando no máximo 1% da RCL); e </a:t>
            </a:r>
            <a:endParaRPr b="0" lang="en-US" sz="1800" spc="-1" strike="noStrike">
              <a:solidFill>
                <a:srgbClr val="000000"/>
              </a:solidFill>
              <a:latin typeface="Calibri"/>
            </a:endParaRPr>
          </a:p>
          <a:p>
            <a:pPr marL="212400" indent="-2124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o saldo que sobrar ao final dos 200 meses, caso a parcela tenha sido limitada a 1% da RCL, será reparcelado em 60 meses através de novo parcelamento em condições normais.</a:t>
            </a:r>
            <a:endParaRPr b="0" lang="en-US" sz="1800" spc="-1" strike="noStrike">
              <a:solidFill>
                <a:srgbClr val="000000"/>
              </a:solidFill>
              <a:latin typeface="Calibri"/>
            </a:endParaRPr>
          </a:p>
          <a:p>
            <a:pPr marL="212400" indent="-2124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As parcelas serão corrigidas pela Selic até o mês anterior ao </a:t>
            </a:r>
            <a:br>
              <a:rPr sz="1800"/>
            </a:br>
            <a:r>
              <a:rPr b="1" lang="pt-BR" sz="1800" spc="-1" strike="noStrike">
                <a:solidFill>
                  <a:srgbClr val="002060"/>
                </a:solidFill>
                <a:latin typeface="Arial"/>
                <a:ea typeface="Arial"/>
              </a:rPr>
              <a:t>vencimento e por 1% no mês de vencimento.</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2" name="PlaceHolder 2"/>
          <p:cNvSpPr>
            <a:spLocks noGrp="1"/>
          </p:cNvSpPr>
          <p:nvPr>
            <p:ph/>
          </p:nvPr>
        </p:nvSpPr>
        <p:spPr>
          <a:xfrm>
            <a:off x="162000" y="1269720"/>
            <a:ext cx="8982000" cy="5491080"/>
          </a:xfrm>
          <a:prstGeom prst="rect">
            <a:avLst/>
          </a:prstGeom>
          <a:noFill/>
          <a:ln w="0">
            <a:noFill/>
          </a:ln>
        </p:spPr>
        <p:txBody>
          <a:bodyPr lIns="45720" rIns="45720" anchor="t">
            <a:norm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2060"/>
                </a:solidFill>
                <a:latin typeface="Arial"/>
                <a:ea typeface="Arial"/>
              </a:rPr>
              <a:t>Impactos da redução de juros e multas para os Municípios:</a:t>
            </a:r>
            <a:endParaRPr b="0" lang="en-US" sz="4000" spc="-1" strike="noStrike">
              <a:solidFill>
                <a:srgbClr val="000000"/>
              </a:solidFill>
              <a:latin typeface="Calibri"/>
            </a:endParaRPr>
          </a:p>
          <a:p>
            <a:pPr>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Valor total da dívida previdenciária dos Municípios: </a:t>
            </a:r>
            <a:r>
              <a:rPr b="1" lang="pt-BR" sz="2000" spc="-1" strike="noStrike">
                <a:solidFill>
                  <a:srgbClr val="ff0000"/>
                </a:solidFill>
                <a:latin typeface="Arial"/>
                <a:ea typeface="Arial"/>
              </a:rPr>
              <a:t>R$ 75,3 bilhões</a:t>
            </a:r>
            <a:endParaRPr b="0" lang="en-US" sz="2000" spc="-1" strike="noStrike">
              <a:solidFill>
                <a:srgbClr val="000000"/>
              </a:solidFill>
              <a:latin typeface="Calibri"/>
            </a:endParaRPr>
          </a:p>
          <a:p>
            <a:pPr>
              <a:lnSpc>
                <a:spcPct val="100000"/>
              </a:lnSpc>
              <a:spcBef>
                <a:spcPts val="29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Estimativa de Redução da dívida previdenciária </a:t>
            </a:r>
            <a:br>
              <a:rPr sz="2000"/>
            </a:br>
            <a:r>
              <a:rPr b="1" lang="pt-BR" sz="2000" spc="-1" strike="noStrike">
                <a:solidFill>
                  <a:srgbClr val="002060"/>
                </a:solidFill>
                <a:latin typeface="Arial"/>
                <a:ea typeface="Arial"/>
              </a:rPr>
              <a:t>dos Municípios: </a:t>
            </a:r>
            <a:r>
              <a:rPr b="1" lang="pt-BR" sz="2400" spc="-1" strike="noStrike">
                <a:solidFill>
                  <a:srgbClr val="ff0000"/>
                </a:solidFill>
                <a:latin typeface="Arial"/>
                <a:ea typeface="Arial"/>
              </a:rPr>
              <a:t>R$ 30,1 bilhões</a:t>
            </a:r>
            <a:endParaRPr b="0" lang="en-US" sz="2400" spc="-1" strike="noStrike">
              <a:solidFill>
                <a:srgbClr val="000000"/>
              </a:solidFill>
              <a:latin typeface="Calibri"/>
            </a:endParaRPr>
          </a:p>
          <a:p>
            <a:pPr>
              <a:lnSpc>
                <a:spcPct val="100000"/>
              </a:lnSpc>
              <a:spcBef>
                <a:spcPts val="29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Estimativa em Percentual da Redução da dívida previdenciária </a:t>
            </a:r>
            <a:br>
              <a:rPr sz="2000"/>
            </a:br>
            <a:r>
              <a:rPr b="1" lang="pt-BR" sz="2000" spc="-1" strike="noStrike">
                <a:solidFill>
                  <a:srgbClr val="002060"/>
                </a:solidFill>
                <a:latin typeface="Arial"/>
                <a:ea typeface="Arial"/>
              </a:rPr>
              <a:t>dos Municípios: </a:t>
            </a:r>
            <a:r>
              <a:rPr b="1" lang="pt-BR" sz="2000" spc="-1" strike="noStrike">
                <a:solidFill>
                  <a:srgbClr val="ff0000"/>
                </a:solidFill>
                <a:latin typeface="Arial"/>
                <a:ea typeface="Arial"/>
              </a:rPr>
              <a:t>40%</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4" name="PlaceHolder 2"/>
          <p:cNvSpPr>
            <a:spLocks noGrp="1"/>
          </p:cNvSpPr>
          <p:nvPr>
            <p:ph/>
          </p:nvPr>
        </p:nvSpPr>
        <p:spPr>
          <a:xfrm>
            <a:off x="162000" y="1270080"/>
            <a:ext cx="8820000" cy="4906800"/>
          </a:xfrm>
          <a:prstGeom prst="rect">
            <a:avLst/>
          </a:prstGeom>
          <a:noFill/>
          <a:ln w="0">
            <a:noFill/>
          </a:ln>
        </p:spPr>
        <p:txBody>
          <a:bodyPr lIns="45720" rIns="45720" anchor="t">
            <a:normAutofit fontScale="94000"/>
          </a:bodyPr>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A Instrução Normativa (IN) da Receita Federal do Brasil (RFB) nº 1710, de 07/06/2017 e a Portaria da Procuradoria Geral da Fazenda Nacional (PGFN) nº 645, de 16/06/2017, regulamentam o parcelamento dos débitos com o RGPS.</a:t>
            </a:r>
            <a:endParaRPr b="0" lang="en-US" sz="1800" spc="-1" strike="noStrike">
              <a:solidFill>
                <a:srgbClr val="000000"/>
              </a:solidFill>
              <a:latin typeface="Calibri"/>
            </a:endParaRPr>
          </a:p>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engloba todas as dívidas dos Municípios com o Regime Geral de Previdência Social (RGPS) vencidas até 30 de abril de 2017, inclusive aquelas que já haviam sido parceladas no âmbito do Programa de Regularização Tributária (PRT), da Medida Provisória nº 766/2017 ou em parcelamentos anteriores.</a:t>
            </a:r>
            <a:endParaRPr b="0" lang="en-US" sz="1800" spc="-1" strike="noStrike">
              <a:solidFill>
                <a:srgbClr val="000000"/>
              </a:solidFill>
              <a:latin typeface="Calibri"/>
            </a:endParaRPr>
          </a:p>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contempla tanto as contribuições patronais quanto as descontadas do servidor e não pagas, inclusive multas e juros, exceto a multa por compensação indevida de valores que teriam sido pagos a maior, quando se comprove falsidade da declaração apresentada pelo Município.</a:t>
            </a:r>
            <a:endParaRPr b="0" lang="en-US" sz="1800" spc="-1" strike="noStrike">
              <a:solidFill>
                <a:srgbClr val="000000"/>
              </a:solidFill>
              <a:latin typeface="Calibri"/>
            </a:endParaRPr>
          </a:p>
          <a:p>
            <a:pPr marL="214560" indent="-21456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Caso o Município tenha débitos ainda não constituídos junto à RFB, que deseja incluir no parcelamento, eles deverão ser confessados por meio </a:t>
            </a:r>
            <a:br>
              <a:rPr sz="1800"/>
            </a:br>
            <a:r>
              <a:rPr b="1" lang="pt-BR" sz="1800" spc="-1" strike="noStrike">
                <a:solidFill>
                  <a:srgbClr val="002060"/>
                </a:solidFill>
                <a:latin typeface="Arial"/>
                <a:ea typeface="Arial"/>
              </a:rPr>
              <a:t>da GFIP, a ser apresentada até 31 de julho de 2017.</a:t>
            </a:r>
            <a:endParaRPr b="0" lang="en-US" sz="1800" spc="-1" strike="noStrike">
              <a:solidFill>
                <a:srgbClr val="000000"/>
              </a:solidFill>
              <a:latin typeface="Calibri"/>
            </a:endParaRPr>
          </a:p>
          <a:p>
            <a:pPr marL="214560" indent="-21456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edido de parcelamento deverá ser formalizado até o dia 31 de </a:t>
            </a:r>
            <a:br>
              <a:rPr sz="1800"/>
            </a:br>
            <a:r>
              <a:rPr b="1" lang="pt-BR" sz="1800" spc="-1" strike="noStrike">
                <a:solidFill>
                  <a:srgbClr val="002060"/>
                </a:solidFill>
                <a:latin typeface="Arial"/>
                <a:ea typeface="Arial"/>
              </a:rPr>
              <a:t>julho de 2017 </a:t>
            </a:r>
            <a:endParaRPr b="0" lang="en-US" sz="1800" spc="-1" strike="noStrike">
              <a:solidFill>
                <a:srgbClr val="000000"/>
              </a:solidFill>
              <a:latin typeface="Calibri"/>
            </a:endParaRPr>
          </a:p>
          <a:p>
            <a:pPr marL="21456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6" name="PlaceHolder 2"/>
          <p:cNvSpPr>
            <a:spLocks noGrp="1"/>
          </p:cNvSpPr>
          <p:nvPr>
            <p:ph/>
          </p:nvPr>
        </p:nvSpPr>
        <p:spPr>
          <a:xfrm>
            <a:off x="162000" y="1270080"/>
            <a:ext cx="8820000" cy="4906800"/>
          </a:xfrm>
          <a:prstGeom prst="rect">
            <a:avLst/>
          </a:prstGeom>
          <a:noFill/>
          <a:ln w="0">
            <a:noFill/>
          </a:ln>
        </p:spPr>
        <p:txBody>
          <a:bodyPr lIns="45720" rIns="45720" anchor="t">
            <a:normAutofit fontScale="93000"/>
          </a:bodyPr>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Se o Município desejar parcelar débitos que está questionando na esfera administrativa ou judicial, terá que desistir dos recursos administrativos ou das ações judiciais. O Município tem a opção de não parcelar os débitos que está questionando, ou de desistir apenas de parte dos questionamentos.</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Município ao aderir ao parcelamento está autorizando a retenção do FPM para pagamento das mensalidades do parcelamento e, caso não pague a contribuição previdenciária corrente no prazo devido, no mês seguinte o FPM também será retido para pagar essa contribuição.</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será rescindido pela RFB e pela PGFN por:</a:t>
            </a:r>
            <a:endParaRPr b="0" lang="en-US" sz="1800" spc="-1" strike="noStrike">
              <a:solidFill>
                <a:srgbClr val="000000"/>
              </a:solidFill>
              <a:latin typeface="Calibri"/>
            </a:endParaRPr>
          </a:p>
          <a:p>
            <a:pPr lvl="1" marL="4251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 - falta de recolhimento de diferença não retida no FPM por 3 meses consecutivos ou alternados;</a:t>
            </a:r>
            <a:endParaRPr b="0" lang="en-US" sz="1800" spc="-1" strike="noStrike">
              <a:solidFill>
                <a:srgbClr val="000000"/>
              </a:solidFill>
              <a:latin typeface="Calibri"/>
            </a:endParaRPr>
          </a:p>
          <a:p>
            <a:pPr lvl="1" marL="4251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 - falta de pagamento de uma parcela, estando pagas todas as demais;</a:t>
            </a:r>
            <a:endParaRPr b="0" lang="en-US" sz="1800" spc="-1" strike="noStrike">
              <a:solidFill>
                <a:srgbClr val="000000"/>
              </a:solidFill>
              <a:latin typeface="Calibri"/>
            </a:endParaRPr>
          </a:p>
          <a:p>
            <a:pPr lvl="1" marL="425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I - falta de apresentação das informações relativas ao demonstrativo </a:t>
            </a:r>
            <a:br>
              <a:rPr sz="1800"/>
            </a:br>
            <a:r>
              <a:rPr b="1" lang="pt-BR" sz="1800" spc="-1" strike="noStrike">
                <a:solidFill>
                  <a:srgbClr val="002060"/>
                </a:solidFill>
                <a:latin typeface="Arial"/>
                <a:ea typeface="Arial"/>
              </a:rPr>
              <a:t>de apuração da RCL; ou</a:t>
            </a:r>
            <a:endParaRPr b="0" lang="en-US" sz="1800" spc="-1" strike="noStrike">
              <a:solidFill>
                <a:srgbClr val="000000"/>
              </a:solidFill>
              <a:latin typeface="Calibri"/>
            </a:endParaRPr>
          </a:p>
          <a:p>
            <a:pPr lvl="1" marL="425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V - a não quitação integral do pagamento das 6 parcelas </a:t>
            </a:r>
            <a:br>
              <a:rPr sz="1800"/>
            </a:br>
            <a:r>
              <a:rPr b="1" lang="pt-BR" sz="1800" spc="-1" strike="noStrike">
                <a:solidFill>
                  <a:srgbClr val="002060"/>
                </a:solidFill>
                <a:latin typeface="Arial"/>
                <a:ea typeface="Arial"/>
              </a:rPr>
              <a:t>iniciais.</a:t>
            </a: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PARCELAMENTO ESPECIAL PARA OS REGIMES PRÓPRIOS DE PREVIDÊNCIA SOCIAL (RPPS)</a:t>
            </a:r>
            <a:endParaRPr b="0" lang="en-US" sz="3600" spc="-1" strike="noStrike">
              <a:solidFill>
                <a:srgbClr val="000000"/>
              </a:solidFill>
              <a:latin typeface="Calibri Light"/>
            </a:endParaRPr>
          </a:p>
        </p:txBody>
      </p:sp>
      <p:sp>
        <p:nvSpPr>
          <p:cNvPr id="1388" name="PlaceHolder 2"/>
          <p:cNvSpPr>
            <a:spLocks noGrp="1"/>
          </p:cNvSpPr>
          <p:nvPr>
            <p:ph/>
          </p:nvPr>
        </p:nvSpPr>
        <p:spPr>
          <a:xfrm>
            <a:off x="162000" y="1270080"/>
            <a:ext cx="8820000" cy="4906800"/>
          </a:xfrm>
          <a:prstGeom prst="rect">
            <a:avLst/>
          </a:prstGeom>
          <a:noFill/>
          <a:ln w="0">
            <a:noFill/>
          </a:ln>
        </p:spPr>
        <p:txBody>
          <a:bodyPr lIns="45720" rIns="45720" anchor="t">
            <a:normAutofit/>
          </a:bodyPr>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Foi divulgada portaria de regulamentação do parcelamento para os </a:t>
            </a:r>
            <a:r>
              <a:rPr b="1" lang="pt-BR" sz="2000" spc="-1" strike="noStrike" u="sng">
                <a:solidFill>
                  <a:srgbClr val="002060"/>
                </a:solidFill>
                <a:uFillTx/>
                <a:latin typeface="Arial"/>
                <a:ea typeface="Arial"/>
              </a:rPr>
              <a:t>RPPS</a:t>
            </a:r>
            <a:r>
              <a:rPr b="1" lang="pt-BR" sz="2000" spc="-1" strike="noStrike">
                <a:solidFill>
                  <a:srgbClr val="002060"/>
                </a:solidFill>
                <a:latin typeface="Arial"/>
                <a:ea typeface="Arial"/>
              </a:rPr>
              <a:t>. A CNM solicitou que fosse em 260 meses, visto que no INSS, além das 200 parcelas, o resíduo que ficar será parcelado em mais 60 meses. </a:t>
            </a:r>
            <a:endParaRPr b="0" lang="en-US" sz="2000" spc="-1" strike="noStrike">
              <a:solidFill>
                <a:srgbClr val="000000"/>
              </a:solidFill>
              <a:latin typeface="Calibri"/>
            </a:endParaRPr>
          </a:p>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No caso dos RPPS não haverá a trava da parcela ficar limitada a 1% da Receita Corrente Líquida (RCL).</a:t>
            </a:r>
            <a:endParaRPr b="0" lang="en-US" sz="2000" spc="-1" strike="noStrike">
              <a:solidFill>
                <a:srgbClr val="000000"/>
              </a:solidFill>
              <a:latin typeface="Calibri"/>
            </a:endParaRPr>
          </a:p>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Os juros serão aqueles utilizados para efeitos de meta atuarial (geralmente IPCA ou INPC + 6% ao ano).</a:t>
            </a:r>
            <a:endParaRPr b="0" lang="en-US" sz="2000" spc="-1" strike="noStrike">
              <a:solidFill>
                <a:srgbClr val="000000"/>
              </a:solidFill>
              <a:latin typeface="Calibri"/>
            </a:endParaRPr>
          </a:p>
          <a:p>
            <a:pPr marL="228600" indent="-2286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Poderão ser parcelados todos os débitos do Município com o RPPS constituídos até o mês anterior a autorização Legislativa: contribuição patronal, contribuição do servidor não repassada e outros débitos referentes a uso indevido de recursos previdenciários.</a:t>
            </a:r>
            <a:endParaRPr b="0" lang="en-US" sz="2000" spc="-1" strike="noStrike">
              <a:solidFill>
                <a:srgbClr val="000000"/>
              </a:solidFill>
              <a:latin typeface="Calibri"/>
            </a:endParaRPr>
          </a:p>
        </p:txBody>
      </p:sp>
      <p:sp>
        <p:nvSpPr>
          <p:cNvPr id="1389" name="Título 1"/>
          <p:cNvSpPr/>
          <p:nvPr/>
        </p:nvSpPr>
        <p:spPr>
          <a:xfrm>
            <a:off x="457200" y="168120"/>
            <a:ext cx="8271000" cy="854280"/>
          </a:xfrm>
          <a:prstGeom prst="rect">
            <a:avLst/>
          </a:prstGeom>
          <a:noFill/>
          <a:ln w="0">
            <a:noFill/>
          </a:ln>
        </p:spPr>
        <p:style>
          <a:lnRef idx="0"/>
          <a:fillRef idx="0"/>
          <a:effectRef idx="0"/>
          <a:fontRef idx="minor"/>
        </p:style>
        <p:txBody>
          <a:bodyPr lIns="45720" rIns="45720" tIns="46800" bIns="4680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MELHORIAS DA MP 778 </a:t>
            </a:r>
            <a:br>
              <a:rPr sz="3600"/>
            </a:br>
            <a:r>
              <a:rPr b="1" lang="pt-BR" sz="3600" spc="-1" strike="noStrike">
                <a:solidFill>
                  <a:srgbClr val="ffffff"/>
                </a:solidFill>
                <a:latin typeface="Calibri"/>
                <a:ea typeface="Calibri"/>
              </a:rPr>
              <a:t>PROPOSTAS PELA CNM</a:t>
            </a:r>
            <a:endParaRPr b="0" lang="en-US" sz="3600" spc="-1" strike="noStrike">
              <a:solidFill>
                <a:srgbClr val="000000"/>
              </a:solidFill>
              <a:latin typeface="Calibri Light"/>
            </a:endParaRPr>
          </a:p>
        </p:txBody>
      </p:sp>
      <p:sp>
        <p:nvSpPr>
          <p:cNvPr id="1391" name="PlaceHolder 2"/>
          <p:cNvSpPr>
            <a:spLocks noGrp="1"/>
          </p:cNvSpPr>
          <p:nvPr>
            <p:ph/>
          </p:nvPr>
        </p:nvSpPr>
        <p:spPr>
          <a:xfrm>
            <a:off x="162000" y="1088640"/>
            <a:ext cx="8820000" cy="5643720"/>
          </a:xfrm>
          <a:prstGeom prst="rect">
            <a:avLst/>
          </a:prstGeom>
          <a:noFill/>
          <a:ln w="0">
            <a:noFill/>
          </a:ln>
        </p:spPr>
        <p:txBody>
          <a:bodyPr lIns="45720" rIns="45720" anchor="t">
            <a:normAutofit/>
          </a:bodyPr>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Supressão do inciso que prevê rescisão sumária em razão de um único atraso de parcela (Emenda nº 22);</a:t>
            </a:r>
            <a:endParaRPr b="0" lang="en-US" sz="1600" spc="-1" strike="noStrike">
              <a:solidFill>
                <a:srgbClr val="000000"/>
              </a:solidFill>
              <a:latin typeface="Calibri"/>
            </a:endParaRPr>
          </a:p>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provação da Emenda nº 25, que estabelece critérios para a realização de efetivo encontro de contas, criando mecanismos para que dívidas do RGPS com as Prefeituras sejam efetivamente liquidadas; </a:t>
            </a:r>
            <a:endParaRPr b="0" lang="en-US" sz="1600" spc="-1" strike="noStrike">
              <a:solidFill>
                <a:srgbClr val="000000"/>
              </a:solidFill>
              <a:latin typeface="Calibri"/>
            </a:endParaRPr>
          </a:p>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presentação das seguintes emendas de Relator:</a:t>
            </a:r>
            <a:endParaRPr b="0" lang="en-US" sz="1600" spc="-1" strike="noStrike">
              <a:solidFill>
                <a:srgbClr val="000000"/>
              </a:solidFill>
              <a:latin typeface="Calibri"/>
            </a:endParaRPr>
          </a:p>
          <a:p>
            <a:pPr lvl="1" marL="723960" indent="-266760" algn="just">
              <a:lnSpc>
                <a:spcPct val="10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gilização da análise dos processos de compensação previdenciária (prazo de 120 dias para o INSS aprovar o requerimento), passar a corrigir os valores pelo mesmo critério que a União corrige as dívidas dos Municípios com o RGPS (ao invés de apenas o INPC passar a ser a Selic) e pagar o estoque;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inclusão na MP 778 de parcelamento especial para as dívidas dos Entes com seus RPPS em sistemática similar à do RGPS, ou seja, em 260 parcelas.</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Condicionar a obrigatoriedade de desistência de ações judiciais à possibilidade de questionar via encontro de contas administrativos;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Prazo adicional para adesão ao parcelamento especial até dez/2017;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mpliação da redução das multas de 25% para 40%; e</a:t>
            </a:r>
            <a:endParaRPr b="0" lang="en-US" sz="1600" spc="-1" strike="noStrike">
              <a:solidFill>
                <a:srgbClr val="000000"/>
              </a:solidFill>
              <a:latin typeface="Calibri"/>
            </a:endParaRPr>
          </a:p>
          <a:p>
            <a:pPr lvl="1" marL="723960" indent="-26676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Incluir o parcelamento das dívidas com o PASEP, bem como o fim </a:t>
            </a:r>
            <a:br>
              <a:rPr sz="1600"/>
            </a:br>
            <a:r>
              <a:rPr b="1" lang="pt-BR" sz="1600" spc="-1" strike="noStrike">
                <a:solidFill>
                  <a:srgbClr val="002060"/>
                </a:solidFill>
                <a:latin typeface="Arial"/>
                <a:ea typeface="Arial"/>
              </a:rPr>
              <a:t>da incidência do PASEP sobre os RPPS.</a:t>
            </a:r>
            <a:endParaRPr b="0" lang="en-US" sz="1600" spc="-1" strike="noStrike">
              <a:solidFill>
                <a:srgbClr val="000000"/>
              </a:solidFill>
              <a:latin typeface="Calibri"/>
            </a:endParaRPr>
          </a:p>
        </p:txBody>
      </p:sp>
      <p:sp>
        <p:nvSpPr>
          <p:cNvPr id="1392" name="Título 1"/>
          <p:cNvSpPr/>
          <p:nvPr/>
        </p:nvSpPr>
        <p:spPr>
          <a:xfrm>
            <a:off x="457200" y="168120"/>
            <a:ext cx="8271000" cy="854280"/>
          </a:xfrm>
          <a:prstGeom prst="rect">
            <a:avLst/>
          </a:prstGeom>
          <a:noFill/>
          <a:ln w="0">
            <a:noFill/>
          </a:ln>
        </p:spPr>
        <p:style>
          <a:lnRef idx="0"/>
          <a:fillRef idx="0"/>
          <a:effectRef idx="0"/>
          <a:fontRef idx="minor"/>
        </p:style>
        <p:txBody>
          <a:bodyPr lIns="45720" rIns="45720" tIns="46800" bIns="4680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19:36:45Z</dcterms:created>
  <dc:creator>Eduardo Viana</dc:creator>
  <dc:description/>
  <dc:language>en-US</dc:language>
  <cp:lastModifiedBy>Silvana do Socorro Machado Rodrigues - MPS</cp:lastModifiedBy>
  <cp:lastPrinted>2017-08-03T12:23:46Z</cp:lastPrinted>
  <dcterms:modified xsi:type="dcterms:W3CDTF">2017-08-03T12:29:45Z</dcterms:modified>
  <cp:revision>494</cp:revision>
  <dc:subject/>
  <dc:title>PowerPoint Presentation</dc:title>
</cp:coreProperties>
</file>